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wmf" ContentType="image/x-wmf"/>
  <Override PartName="/ppt/media/image23.wmf" ContentType="image/x-wmf"/>
  <Override PartName="/ppt/media/image22.wmf" ContentType="image/x-wmf"/>
  <Override PartName="/ppt/media/image4.wmf" ContentType="image/x-wmf"/>
  <Override PartName="/ppt/media/image27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10.wmf" ContentType="image/x-wmf"/>
  <Override PartName="/ppt/media/image6.wmf" ContentType="image/x-wmf"/>
  <Override PartName="/ppt/media/image31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88FB-805D-4EB5-B0CC-9475ED9C6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529F-75E6-40E1-8B07-1798F9947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A6C1-0A92-4966-93DC-BCFB8FB47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DFE5-B8D5-47E0-A7A5-A857D46AE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ED44-92B7-4571-A8C0-9E0F2AD1C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AA32-8B4D-43A2-9F1D-D066C54AE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DC2A-1EE9-4D47-9483-4DBDC13FD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B9A4-1C10-4B57-A8A4-1A079A9F5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963C-B4F0-4AFF-B6AA-6091F434F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A415-50E6-4810-97A3-02BC99120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8B0D-F929-49A5-948E-A572FCDB3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B89A-334B-4482-909D-8587E9C7A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4D64E-4A81-4E92-B081-EA52AC9E6AB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7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8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9.wmf"/><Relationship Id="rId8" Type="http://schemas.openxmlformats.org/officeDocument/2006/relationships/package" Target="../embeddings/oleObject4.xlsx"/><Relationship Id="rId9" Type="http://schemas.openxmlformats.org/officeDocument/2006/relationships/image" Target="../media/image20.wmf"/><Relationship Id="rId10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2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2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23.wmf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31.wmf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strips dir="l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Fipetif" descr=""/>
          <p:cNvPicPr/>
          <p:nvPr/>
        </p:nvPicPr>
        <p:blipFill>
          <a:blip r:embed="rId1"/>
          <a:stretch/>
        </p:blipFill>
        <p:spPr>
          <a:xfrm>
            <a:off x="8305920" y="6095880"/>
            <a:ext cx="574560" cy="6858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5562720" y="6284880"/>
            <a:ext cx="25905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FEDERAZIONE ITALIAN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PUBBLICI ESERCIZ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04920" y="624852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99"/>
                </a:solidFill>
                <a:latin typeface="Arial"/>
              </a:rPr>
              <a:t>www.fipe.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28600" y="30492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L’OFFER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828800" y="2025720"/>
            <a:ext cx="6781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QUANTI SO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rot="5400000">
            <a:off x="933480" y="4521240"/>
            <a:ext cx="495360" cy="457200"/>
          </a:xfrm>
          <a:prstGeom prst="triangle">
            <a:avLst>
              <a:gd name="adj" fmla="val 50000"/>
            </a:avLst>
          </a:prstGeom>
          <a:solidFill>
            <a:srgbClr val="ccffff"/>
          </a:solidFill>
          <a:ln w="255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rot="5400000">
            <a:off x="895320" y="3492360"/>
            <a:ext cx="495360" cy="457200"/>
          </a:xfrm>
          <a:prstGeom prst="triangle">
            <a:avLst>
              <a:gd name="adj" fmla="val 50000"/>
            </a:avLst>
          </a:prstGeom>
          <a:solidFill>
            <a:srgbClr val="ccffff"/>
          </a:solidFill>
          <a:ln w="255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rot="5400000">
            <a:off x="895320" y="2425680"/>
            <a:ext cx="495360" cy="457200"/>
          </a:xfrm>
          <a:prstGeom prst="triangle">
            <a:avLst>
              <a:gd name="adj" fmla="val 50000"/>
            </a:avLst>
          </a:prstGeom>
          <a:solidFill>
            <a:srgbClr val="ccffff"/>
          </a:solidFill>
          <a:ln w="255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832760" y="4159080"/>
            <a:ext cx="2387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ME SO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832400" y="3092400"/>
            <a:ext cx="2328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OVE SO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57200" y="1219320"/>
            <a:ext cx="19810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I B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304920" y="2133720"/>
            <a:ext cx="2438280" cy="207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Arial"/>
              </a:rPr>
              <a:t>I B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it-IT" sz="2800" spc="-1" strike="noStrike">
                <a:solidFill>
                  <a:srgbClr val="ffff00"/>
                </a:solidFill>
                <a:latin typeface="Arial"/>
              </a:rPr>
              <a:t>IN ITALIA</a:t>
            </a:r>
            <a:r>
              <a:rPr b="0" lang="it-IT" sz="1800" spc="-1" strike="noStrike">
                <a:solidFill>
                  <a:srgbClr val="ffff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it-IT" sz="1800" spc="-1" strike="noStrike">
                <a:solidFill>
                  <a:srgbClr val="ffff00"/>
                </a:solidFill>
                <a:latin typeface="Arial"/>
              </a:rPr>
              <a:t>(anno 200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581280" y="0"/>
            <a:ext cx="556272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3520" y="6172200"/>
            <a:ext cx="25905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Arial"/>
              </a:rPr>
              <a:t>L’OFFER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191120" y="6553080"/>
            <a:ext cx="441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3399"/>
                </a:solidFill>
                <a:latin typeface="Arial"/>
              </a:rPr>
              <a:t>Fonte: elaborazione C.S. Fipe su dati Infocam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4302000" y="152280"/>
          <a:ext cx="4289400" cy="6248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02000" y="152280"/>
                    <a:ext cx="4289400" cy="624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"/>
          <p:cNvSpPr/>
          <p:nvPr/>
        </p:nvSpPr>
        <p:spPr>
          <a:xfrm>
            <a:off x="8077320" y="41112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al.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620120" y="6400800"/>
            <a:ext cx="990360" cy="0"/>
          </a:xfrm>
          <a:prstGeom prst="line">
            <a:avLst/>
          </a:prstGeom>
          <a:ln w="230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Fipetif" descr=""/>
          <p:cNvPicPr/>
          <p:nvPr/>
        </p:nvPicPr>
        <p:blipFill>
          <a:blip r:embed="rId1"/>
          <a:stretch/>
        </p:blipFill>
        <p:spPr>
          <a:xfrm>
            <a:off x="344520" y="6324480"/>
            <a:ext cx="382680" cy="457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6416640"/>
            <a:ext cx="21333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FEDERAZIONE ITALIAN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PUBBLICI ESERCIZ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86200" y="6361200"/>
            <a:ext cx="51055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L’OFFER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76320"/>
            <a:ext cx="9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BAR: LA DISTRIBUZIONE PER AREA GEOGRAF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1447920" y="1352520"/>
            <a:ext cx="6476760" cy="43038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304920" y="5943600"/>
            <a:ext cx="441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8f8f8"/>
                </a:solidFill>
                <a:latin typeface="Arial"/>
              </a:rPr>
              <a:t>Fonte: elaborazione C.S. Fipe su dati Infocam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Fipetif" descr=""/>
          <p:cNvPicPr/>
          <p:nvPr/>
        </p:nvPicPr>
        <p:blipFill>
          <a:blip r:embed="rId1"/>
          <a:stretch/>
        </p:blipFill>
        <p:spPr>
          <a:xfrm>
            <a:off x="344520" y="6324480"/>
            <a:ext cx="382680" cy="4572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762120" y="6416640"/>
            <a:ext cx="21333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FEDERAZIONE ITALIAN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PUBBLICI ESERCIZ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886200" y="6361200"/>
            <a:ext cx="51055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L’OFFER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-114480" y="152280"/>
            <a:ext cx="9372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ISTRIBUZIONE DEI BAR ITALIANI SECONDO L’ORARIO DI APERTURA GIORNALI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1219320" y="1081080"/>
            <a:ext cx="6781680" cy="474984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304920" y="5943600"/>
            <a:ext cx="441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8f8f8"/>
                </a:solidFill>
                <a:latin typeface="Arial"/>
              </a:rPr>
              <a:t>Fonte: elaborazione C.S. Fipe su dati var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Fipetif" descr=""/>
          <p:cNvPicPr/>
          <p:nvPr/>
        </p:nvPicPr>
        <p:blipFill>
          <a:blip r:embed="rId1"/>
          <a:stretch/>
        </p:blipFill>
        <p:spPr>
          <a:xfrm>
            <a:off x="344520" y="6324480"/>
            <a:ext cx="382680" cy="4572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762120" y="6416640"/>
            <a:ext cx="21333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FEDERAZIONE ITALIAN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PUBBLICI ESERCIZ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86200" y="6361200"/>
            <a:ext cx="51055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L’OFFER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-114480" y="152280"/>
            <a:ext cx="937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LCUNE SPECIFICHE LOCALIZZAZIONI 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(val. %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rcRect l="11461" t="0" r="11461" b="0"/>
          <a:stretch/>
        </p:blipFill>
        <p:spPr>
          <a:xfrm>
            <a:off x="1371600" y="1219320"/>
            <a:ext cx="6400800" cy="465912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304920" y="5943600"/>
            <a:ext cx="441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8f8f8"/>
                </a:solidFill>
                <a:latin typeface="Arial"/>
              </a:rPr>
              <a:t>Fonte: elaborazione C.S. Fipe su dati var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Fipetif" descr=""/>
          <p:cNvPicPr/>
          <p:nvPr/>
        </p:nvPicPr>
        <p:blipFill>
          <a:blip r:embed="rId1"/>
          <a:stretch/>
        </p:blipFill>
        <p:spPr>
          <a:xfrm>
            <a:off x="344520" y="6324480"/>
            <a:ext cx="382680" cy="45720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762120" y="6416640"/>
            <a:ext cx="21333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FEDERAZIONE ITALIAN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PUBBLICI ESERCIZ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886200" y="6361200"/>
            <a:ext cx="51055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L’OFFER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-114480" y="152280"/>
            <a:ext cx="937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RESENZA DI ALCUNI PRODOTTI/SERVIZI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(val. %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1066680" y="1461960"/>
            <a:ext cx="7239240" cy="40626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304920" y="5943600"/>
            <a:ext cx="441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8f8f8"/>
                </a:solidFill>
                <a:latin typeface="Arial"/>
              </a:rPr>
              <a:t>Fonte: elaborazione C.S. Fipe su dati var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Fipetif" descr=""/>
          <p:cNvPicPr/>
          <p:nvPr/>
        </p:nvPicPr>
        <p:blipFill>
          <a:blip r:embed="rId1"/>
          <a:stretch/>
        </p:blipFill>
        <p:spPr>
          <a:xfrm>
            <a:off x="344520" y="6324480"/>
            <a:ext cx="382680" cy="4572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762120" y="6416640"/>
            <a:ext cx="21333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FEDERAZIONE ITALIAN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PUBBLICI ESERCIZ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886200" y="6361200"/>
            <a:ext cx="51055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L’OFFER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-114480" y="152280"/>
            <a:ext cx="937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QUOTA DI BAR CHE PRODUCONO IN  PROPRIO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(val. %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685800" y="1363680"/>
            <a:ext cx="7315200" cy="415116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304920" y="5943600"/>
            <a:ext cx="441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8f8f8"/>
                </a:solidFill>
                <a:latin typeface="Arial"/>
              </a:rPr>
              <a:t>Fonte: elaborazione C.S. Fipe su dati var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Fipetif" descr=""/>
          <p:cNvPicPr/>
          <p:nvPr/>
        </p:nvPicPr>
        <p:blipFill>
          <a:blip r:embed="rId1"/>
          <a:stretch/>
        </p:blipFill>
        <p:spPr>
          <a:xfrm>
            <a:off x="344520" y="6324480"/>
            <a:ext cx="382680" cy="4572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762120" y="6416640"/>
            <a:ext cx="21333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FEDERAZIONE ITALIAN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PUBBLICI ESERCIZ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886200" y="6361200"/>
            <a:ext cx="51055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L’OFFER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114480" y="152280"/>
            <a:ext cx="937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GLI SPAZ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04920" y="5943600"/>
            <a:ext cx="441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8f8f8"/>
                </a:solidFill>
                <a:latin typeface="Arial"/>
              </a:rPr>
              <a:t>Fonte: elaborazione C.S. Fipe su dati var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447920" y="1371600"/>
            <a:ext cx="6324480" cy="388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1676520" y="1600200"/>
          <a:ext cx="5867280" cy="3564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6520" y="1600200"/>
                    <a:ext cx="5867280" cy="356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trips dir="l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Fipetif" descr=""/>
          <p:cNvPicPr/>
          <p:nvPr/>
        </p:nvPicPr>
        <p:blipFill>
          <a:blip r:embed="rId1"/>
          <a:stretch/>
        </p:blipFill>
        <p:spPr>
          <a:xfrm>
            <a:off x="344520" y="6324480"/>
            <a:ext cx="382680" cy="45720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762120" y="6416640"/>
            <a:ext cx="21333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FEDERAZIONE ITALIAN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PUBBLICI ESERCIZ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886200" y="6361200"/>
            <a:ext cx="51055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L’OFFER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-114480" y="152280"/>
            <a:ext cx="9372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LA DISTRIBUZIONE DEL FATTURATO PER TIPO DI PRODOTTO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(val. %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1143000" y="1504800"/>
            <a:ext cx="7086600" cy="397692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04920" y="5943600"/>
            <a:ext cx="441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8f8f8"/>
                </a:solidFill>
                <a:latin typeface="Arial"/>
              </a:rPr>
              <a:t>Fonte: elaborazione C.S. Fipe su dati var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Fipetif" descr=""/>
          <p:cNvPicPr/>
          <p:nvPr/>
        </p:nvPicPr>
        <p:blipFill>
          <a:blip r:embed="rId1"/>
          <a:stretch/>
        </p:blipFill>
        <p:spPr>
          <a:xfrm>
            <a:off x="344520" y="6324480"/>
            <a:ext cx="38268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762120" y="6416640"/>
            <a:ext cx="21333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FEDERAZIONE ITALIAN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PUBBLICI ESERCIZ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886200" y="6361200"/>
            <a:ext cx="51055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L’OFFER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-114480" y="152280"/>
            <a:ext cx="937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LA SEGMENTAZIONE DELL’UNIVERSO B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3886200" y="837720"/>
            <a:ext cx="0" cy="3124440"/>
          </a:xfrm>
          <a:prstGeom prst="line">
            <a:avLst/>
          </a:prstGeom>
          <a:ln w="50760">
            <a:solidFill>
              <a:srgbClr val="cc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886200" y="3962520"/>
            <a:ext cx="3048120" cy="0"/>
          </a:xfrm>
          <a:prstGeom prst="line">
            <a:avLst/>
          </a:prstGeom>
          <a:ln w="50760">
            <a:solidFill>
              <a:srgbClr val="cc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1981080" y="3962520"/>
            <a:ext cx="1905120" cy="1828800"/>
          </a:xfrm>
          <a:prstGeom prst="line">
            <a:avLst/>
          </a:prstGeom>
          <a:ln w="50760">
            <a:solidFill>
              <a:srgbClr val="cc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114800" y="914400"/>
            <a:ext cx="4038480" cy="6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</a:rPr>
              <a:t>LOCALIZZAZI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</a:rPr>
              <a:t>(geografica, dimensione del comune, urban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181480" y="405288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</a:rPr>
              <a:t>DIMENSIONE ATTIVIT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rot="19043400">
            <a:off x="2134080" y="4571640"/>
            <a:ext cx="28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</a:rPr>
              <a:t>PRODOTTI / SERVIZ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952880" y="1752480"/>
            <a:ext cx="3886200" cy="24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IL MERCA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ALIMENTA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FUORI CA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952880" y="5546880"/>
            <a:ext cx="4191120" cy="12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Arial"/>
              </a:rPr>
              <a:t>CONVENTION MIX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ffff"/>
                </a:solidFill>
                <a:latin typeface="Arial"/>
              </a:rPr>
              <a:t>Montecarlo 27 settembre 20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43434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Fipetif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3511440" cy="41907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5170320"/>
            <a:ext cx="426708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FEDERAZIONE ITALIANA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PUBBLICI ESERCIZ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Fipetif" descr=""/>
          <p:cNvPicPr/>
          <p:nvPr/>
        </p:nvPicPr>
        <p:blipFill>
          <a:blip r:embed="rId1"/>
          <a:stretch/>
        </p:blipFill>
        <p:spPr>
          <a:xfrm>
            <a:off x="344520" y="6324480"/>
            <a:ext cx="382680" cy="4572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762120" y="6416640"/>
            <a:ext cx="21333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FEDERAZIONE ITALIAN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PUBBLICI ESERCIZ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886200" y="6361200"/>
            <a:ext cx="51055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L’OFFER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219320" y="228600"/>
            <a:ext cx="69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LA SEGMENTAZIONE DELL’UNIVERSO B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04920" y="5943600"/>
            <a:ext cx="441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8f8f8"/>
                </a:solidFill>
                <a:latin typeface="Arial"/>
              </a:rPr>
              <a:t>Fonte: elaborazione C.S. Fipe su dati var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752480" y="838080"/>
            <a:ext cx="5943600" cy="5029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1905120" y="1066680"/>
          <a:ext cx="5562360" cy="46958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05120" y="1066680"/>
                    <a:ext cx="5562360" cy="46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trips dir="l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Fipetif" descr=""/>
          <p:cNvPicPr/>
          <p:nvPr/>
        </p:nvPicPr>
        <p:blipFill>
          <a:blip r:embed="rId1"/>
          <a:stretch/>
        </p:blipFill>
        <p:spPr>
          <a:xfrm>
            <a:off x="344520" y="6324480"/>
            <a:ext cx="382680" cy="45720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762120" y="6416640"/>
            <a:ext cx="21333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FEDERAZIONE ITALIAN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PUBBLICI ESERCIZ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886200" y="6361200"/>
            <a:ext cx="51055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L’OFFER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-114480" y="152280"/>
            <a:ext cx="9372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ISTRIBUZIONE DEL FATTURATO PER TIPOLOGIA DI PRODOTTO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(valori medi in %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0" y="952560"/>
          <a:ext cx="4276800" cy="24764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952560"/>
                    <a:ext cx="4276800" cy="24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8" name=""/>
          <p:cNvSpPr/>
          <p:nvPr/>
        </p:nvSpPr>
        <p:spPr>
          <a:xfrm>
            <a:off x="1752480" y="1143000"/>
            <a:ext cx="22100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BAR CON ALCOLICI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4867200" y="952560"/>
          <a:ext cx="4276800" cy="247644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867200" y="952560"/>
                    <a:ext cx="4276800" cy="24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"/>
          <p:cNvSpPr/>
          <p:nvPr/>
        </p:nvSpPr>
        <p:spPr>
          <a:xfrm>
            <a:off x="6781680" y="1066680"/>
            <a:ext cx="2210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BAR CON INTRATTENIMENT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0" y="3686040"/>
          <a:ext cx="4286160" cy="248616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3686040"/>
                    <a:ext cx="4286160" cy="248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4" name=""/>
          <p:cNvSpPr/>
          <p:nvPr/>
        </p:nvSpPr>
        <p:spPr>
          <a:xfrm>
            <a:off x="1752480" y="3930480"/>
            <a:ext cx="2210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BAR /CAFFE’ TRADIZIONALI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895480" y="6248520"/>
            <a:ext cx="441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Fonte: elaborazione C.S. Fipe su dati var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4772160" y="3657600"/>
          <a:ext cx="4295520" cy="2495520"/>
        </p:xfrm>
        <a:graphic>
          <a:graphicData uri="http://schemas.openxmlformats.org/presentationml/2006/ole">
            <p:oleObj progId="Excel.Sheet.12" r:id="rId8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772160" y="3657600"/>
                    <a:ext cx="4295520" cy="24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"/>
          <p:cNvSpPr/>
          <p:nvPr/>
        </p:nvSpPr>
        <p:spPr>
          <a:xfrm>
            <a:off x="6372360" y="3830760"/>
            <a:ext cx="2209680" cy="5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SNACK BA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5.826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Fipetif" descr=""/>
          <p:cNvPicPr/>
          <p:nvPr/>
        </p:nvPicPr>
        <p:blipFill>
          <a:blip r:embed="rId1"/>
          <a:stretch/>
        </p:blipFill>
        <p:spPr>
          <a:xfrm>
            <a:off x="344520" y="6324480"/>
            <a:ext cx="382680" cy="45720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762120" y="6416640"/>
            <a:ext cx="21333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FEDERAZIONE ITALIAN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PUBBLICI ESERCIZ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86200" y="6361200"/>
            <a:ext cx="51055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L’OFFER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-114480" y="152280"/>
            <a:ext cx="9372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ISTRIBUZIONE DEL FATTURATO PER TIPOLOGIA DI PRODOTTO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(valori medi in %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2514600" y="1066680"/>
          <a:ext cx="4295880" cy="2495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14600" y="1066680"/>
                    <a:ext cx="4295880" cy="24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"/>
          <p:cNvSpPr/>
          <p:nvPr/>
        </p:nvSpPr>
        <p:spPr>
          <a:xfrm>
            <a:off x="4495680" y="1219320"/>
            <a:ext cx="2210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BAR IN CENTRI COMMERCIALI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152280" y="3666960"/>
          <a:ext cx="4305600" cy="250524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3666960"/>
                    <a:ext cx="4305600" cy="250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9" name=""/>
          <p:cNvSpPr/>
          <p:nvPr/>
        </p:nvSpPr>
        <p:spPr>
          <a:xfrm>
            <a:off x="2133720" y="3784680"/>
            <a:ext cx="2209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BAR IN IN STAZIONI FERROVIARI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895480" y="6248520"/>
            <a:ext cx="441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Fonte: elaborazione C.S. Fipe su dati var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4857840" y="3686040"/>
          <a:ext cx="4286160" cy="248616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857840" y="3686040"/>
                    <a:ext cx="4286160" cy="248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3" name=""/>
          <p:cNvSpPr/>
          <p:nvPr/>
        </p:nvSpPr>
        <p:spPr>
          <a:xfrm>
            <a:off x="6705720" y="3962520"/>
            <a:ext cx="2209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BAR DI PAESE</a:t>
            </a:r>
            <a:br>
              <a:rPr sz="1300"/>
            </a:b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304920" y="2133720"/>
            <a:ext cx="2438280" cy="19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Arial"/>
              </a:rPr>
              <a:t>RISTORANTI IN ITALIA</a:t>
            </a:r>
            <a:r>
              <a:rPr b="0" lang="it-IT" sz="1800" spc="-1" strike="noStrike">
                <a:solidFill>
                  <a:srgbClr val="ffff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it-IT" sz="1800" spc="-1" strike="noStrike">
                <a:solidFill>
                  <a:srgbClr val="ffff00"/>
                </a:solidFill>
                <a:latin typeface="Arial"/>
              </a:rPr>
              <a:t>(anno 200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0"/>
            <a:ext cx="518148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33520" y="6172200"/>
            <a:ext cx="25905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Arial"/>
              </a:rPr>
              <a:t>L’OFFER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191120" y="6553080"/>
            <a:ext cx="441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3399"/>
                </a:solidFill>
                <a:latin typeface="Arial"/>
              </a:rPr>
              <a:t>Fonte: elaborazione C.S. Fipe su dati Infocam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4538520" y="228600"/>
          <a:ext cx="4138920" cy="6172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38520" y="228600"/>
                    <a:ext cx="4138920" cy="617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0" name=""/>
          <p:cNvSpPr/>
          <p:nvPr/>
        </p:nvSpPr>
        <p:spPr>
          <a:xfrm>
            <a:off x="7010280" y="228600"/>
            <a:ext cx="16765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istorant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477120" y="533520"/>
            <a:ext cx="2286000" cy="0"/>
          </a:xfrm>
          <a:prstGeom prst="line">
            <a:avLst/>
          </a:prstGeom>
          <a:ln w="230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572000" y="228600"/>
            <a:ext cx="4343400" cy="0"/>
          </a:xfrm>
          <a:prstGeom prst="line">
            <a:avLst/>
          </a:prstGeom>
          <a:ln w="230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4" name="Fipetif" descr=""/>
          <p:cNvPicPr/>
          <p:nvPr/>
        </p:nvPicPr>
        <p:blipFill>
          <a:blip r:embed="rId1"/>
          <a:stretch/>
        </p:blipFill>
        <p:spPr>
          <a:xfrm>
            <a:off x="344520" y="6324480"/>
            <a:ext cx="38268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762120" y="6416640"/>
            <a:ext cx="21333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FEDERAZIONE ITALIAN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PUBBLICI ESERCIZ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886200" y="6361200"/>
            <a:ext cx="51055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L’OFFER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0" y="76320"/>
            <a:ext cx="9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RISTORANTI: LA DISTRIBUZIONE PER AREA GEOGRAF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1371600" y="1305000"/>
            <a:ext cx="6477120" cy="429876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304920" y="5943600"/>
            <a:ext cx="441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8f8f8"/>
                </a:solidFill>
                <a:latin typeface="Arial"/>
              </a:rPr>
              <a:t>Fonte: elaborazione C.S. Fipe su dati Infocam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1" name="Fipetif" descr=""/>
          <p:cNvPicPr/>
          <p:nvPr/>
        </p:nvPicPr>
        <p:blipFill>
          <a:blip r:embed="rId1"/>
          <a:stretch/>
        </p:blipFill>
        <p:spPr>
          <a:xfrm>
            <a:off x="344520" y="6324480"/>
            <a:ext cx="382680" cy="45720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762120" y="6416640"/>
            <a:ext cx="21333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FEDERAZIONE ITALIAN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PUBBLICI ESERCIZ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886200" y="6361200"/>
            <a:ext cx="51055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L’OFFER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3886200" y="837720"/>
            <a:ext cx="0" cy="3124440"/>
          </a:xfrm>
          <a:prstGeom prst="line">
            <a:avLst/>
          </a:prstGeom>
          <a:ln w="50760">
            <a:solidFill>
              <a:srgbClr val="cc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886200" y="3962520"/>
            <a:ext cx="3048120" cy="0"/>
          </a:xfrm>
          <a:prstGeom prst="line">
            <a:avLst/>
          </a:prstGeom>
          <a:ln w="50760">
            <a:solidFill>
              <a:srgbClr val="cc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1676520" y="3962520"/>
            <a:ext cx="2209680" cy="1752480"/>
          </a:xfrm>
          <a:prstGeom prst="line">
            <a:avLst/>
          </a:prstGeom>
          <a:ln w="50760">
            <a:solidFill>
              <a:srgbClr val="cc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181480" y="405288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</a:rPr>
              <a:t>DIMENSIONE ATTIVIT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rot="19203000">
            <a:off x="1752840" y="473832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</a:rPr>
              <a:t>LIVELLO DI SERVIZ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0" y="152280"/>
            <a:ext cx="9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LA SEGMENTAZIONE DEI RISTORAN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191120" y="914400"/>
            <a:ext cx="403848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</a:rPr>
              <a:t>TIPOLOGIA CLIENTEL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(famiglie, turisti, aziend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2" name="Fipetif" descr=""/>
          <p:cNvPicPr/>
          <p:nvPr/>
        </p:nvPicPr>
        <p:blipFill>
          <a:blip r:embed="rId1"/>
          <a:stretch/>
        </p:blipFill>
        <p:spPr>
          <a:xfrm>
            <a:off x="344520" y="6324480"/>
            <a:ext cx="382680" cy="45720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762120" y="6416640"/>
            <a:ext cx="21333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FEDERAZIONE ITALIAN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PUBBLICI ESERCIZ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886200" y="6361200"/>
            <a:ext cx="51055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L’OFFER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0" y="152280"/>
            <a:ext cx="9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LA SEGMENTAZIONE DEI RISTORAN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295280" y="990720"/>
            <a:ext cx="6172200" cy="457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1447920" y="1176480"/>
          <a:ext cx="5867280" cy="42289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7920" y="1176480"/>
                    <a:ext cx="5867280" cy="422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trips dir="l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Fipetif" descr=""/>
          <p:cNvPicPr/>
          <p:nvPr/>
        </p:nvPicPr>
        <p:blipFill>
          <a:blip r:embed="rId1"/>
          <a:stretch/>
        </p:blipFill>
        <p:spPr>
          <a:xfrm>
            <a:off x="344520" y="6324480"/>
            <a:ext cx="382680" cy="45720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762120" y="6416640"/>
            <a:ext cx="21333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FEDERAZIONE ITALIAN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PUBBLICI ESERCIZ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886200" y="6361200"/>
            <a:ext cx="51055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L’OFFER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0" y="152280"/>
            <a:ext cx="9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GLI SPAZ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295280" y="990720"/>
            <a:ext cx="6172200" cy="457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1600200" y="1138320"/>
          <a:ext cx="5715000" cy="4195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0200" y="1138320"/>
                    <a:ext cx="5715000" cy="419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trips dir="l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8" name="Fipetif" descr=""/>
          <p:cNvPicPr/>
          <p:nvPr/>
        </p:nvPicPr>
        <p:blipFill>
          <a:blip r:embed="rId1"/>
          <a:stretch/>
        </p:blipFill>
        <p:spPr>
          <a:xfrm>
            <a:off x="344520" y="6324480"/>
            <a:ext cx="382680" cy="45720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762120" y="6416640"/>
            <a:ext cx="21333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FEDERAZIONE ITALIAN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PUBBLICI ESERCIZ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886200" y="6361200"/>
            <a:ext cx="51055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L’OFFER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0" y="152280"/>
            <a:ext cx="9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LE ATTREZZA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295280" y="990720"/>
            <a:ext cx="6172200" cy="457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1828800" y="1225440"/>
          <a:ext cx="5257800" cy="42246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3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28800" y="1225440"/>
                    <a:ext cx="5257800" cy="422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trips dir="l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6" name="Fipetif" descr=""/>
          <p:cNvPicPr/>
          <p:nvPr/>
        </p:nvPicPr>
        <p:blipFill>
          <a:blip r:embed="rId1"/>
          <a:stretch/>
        </p:blipFill>
        <p:spPr>
          <a:xfrm>
            <a:off x="344520" y="6324480"/>
            <a:ext cx="382680" cy="45720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762120" y="6416640"/>
            <a:ext cx="21333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FEDERAZIONE ITALIAN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PUBBLICI ESERCIZ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886200" y="6361200"/>
            <a:ext cx="51055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L’OFFER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-114480" y="152280"/>
            <a:ext cx="9372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ROSPETTO DELLA PENETRAZIONE TECNOLOGICA IN BAR E RISTORAN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04920" y="5334120"/>
            <a:ext cx="441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8f8f8"/>
                </a:solidFill>
                <a:latin typeface="Arial"/>
              </a:rPr>
              <a:t>Fonte: indagine Fipe-Confcommercio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2"/>
          <a:stretch/>
        </p:blipFill>
        <p:spPr>
          <a:xfrm>
            <a:off x="419040" y="2082960"/>
            <a:ext cx="8305920" cy="269208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457200" y="4724280"/>
            <a:ext cx="830592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80880" y="2057400"/>
            <a:ext cx="830592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57200" y="3276720"/>
            <a:ext cx="830592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Fipetif" descr=""/>
          <p:cNvPicPr/>
          <p:nvPr/>
        </p:nvPicPr>
        <p:blipFill>
          <a:blip r:embed="rId1"/>
          <a:stretch/>
        </p:blipFill>
        <p:spPr>
          <a:xfrm>
            <a:off x="8305920" y="6095880"/>
            <a:ext cx="574560" cy="6858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562720" y="6284880"/>
            <a:ext cx="25905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FEDERAZIONE ITALIAN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PUBBLICI ESERCIZ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624852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99"/>
                </a:solidFill>
                <a:latin typeface="Arial"/>
              </a:rPr>
              <a:t>www.fipe.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30492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AGEN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52480" y="1523880"/>
            <a:ext cx="6782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LA DOMAN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5400000">
            <a:off x="857160" y="4019400"/>
            <a:ext cx="495000" cy="457200"/>
          </a:xfrm>
          <a:prstGeom prst="triangle">
            <a:avLst>
              <a:gd name="adj" fmla="val 50000"/>
            </a:avLst>
          </a:prstGeom>
          <a:solidFill>
            <a:srgbClr val="ccffff"/>
          </a:solidFill>
          <a:ln w="255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5400000">
            <a:off x="819000" y="2990880"/>
            <a:ext cx="495360" cy="457200"/>
          </a:xfrm>
          <a:prstGeom prst="triangle">
            <a:avLst>
              <a:gd name="adj" fmla="val 50000"/>
            </a:avLst>
          </a:prstGeom>
          <a:solidFill>
            <a:srgbClr val="ccffff"/>
          </a:solidFill>
          <a:ln w="255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5400000">
            <a:off x="819000" y="1924200"/>
            <a:ext cx="495360" cy="457200"/>
          </a:xfrm>
          <a:prstGeom prst="triangle">
            <a:avLst>
              <a:gd name="adj" fmla="val 50000"/>
            </a:avLst>
          </a:prstGeom>
          <a:solidFill>
            <a:srgbClr val="ccffff"/>
          </a:solidFill>
          <a:ln w="255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756080" y="3657600"/>
            <a:ext cx="4239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 PREZZI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(UN TEMA DI ATTUALITA’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7160" y="2590920"/>
            <a:ext cx="2111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L’OFFER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6" name="Fipetif" descr=""/>
          <p:cNvPicPr/>
          <p:nvPr/>
        </p:nvPicPr>
        <p:blipFill>
          <a:blip r:embed="rId1"/>
          <a:stretch/>
        </p:blipFill>
        <p:spPr>
          <a:xfrm>
            <a:off x="8305920" y="6095880"/>
            <a:ext cx="574560" cy="6858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5562720" y="6284880"/>
            <a:ext cx="25905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FEDERAZIONE ITALIAN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PUBBLICI ESERCIZ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04920" y="624852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99"/>
                </a:solidFill>
                <a:latin typeface="Arial"/>
              </a:rPr>
              <a:t>www.fipe.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04920" y="198108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I PREZZ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1" name="Fipetif" descr=""/>
          <p:cNvPicPr/>
          <p:nvPr/>
        </p:nvPicPr>
        <p:blipFill>
          <a:blip r:embed="rId1"/>
          <a:stretch/>
        </p:blipFill>
        <p:spPr>
          <a:xfrm>
            <a:off x="344520" y="6324480"/>
            <a:ext cx="382680" cy="45720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762120" y="6416640"/>
            <a:ext cx="21333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FEDERAZIONE ITALIAN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PUBBLICI ESERCIZ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886200" y="6361200"/>
            <a:ext cx="51055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I PREZZ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0" y="1020600"/>
            <a:ext cx="2819520" cy="32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LE VARIAZIONI DI PREZZO NEL PERIODO 1996/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prezzi  al consumo intera collettività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819520" y="457200"/>
            <a:ext cx="6324480" cy="5638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2971800" y="914400"/>
            <a:ext cx="6226200" cy="480060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3124080" y="5791320"/>
            <a:ext cx="441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Fonte: elaborazione C.S. Fipe su dati Ist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9" name="Fipetif" descr=""/>
          <p:cNvPicPr/>
          <p:nvPr/>
        </p:nvPicPr>
        <p:blipFill>
          <a:blip r:embed="rId1"/>
          <a:stretch/>
        </p:blipFill>
        <p:spPr>
          <a:xfrm>
            <a:off x="344520" y="6324480"/>
            <a:ext cx="382680" cy="4572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762120" y="6416640"/>
            <a:ext cx="21333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FEDERAZIONE ITALIAN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PUBBLICI ESERCIZ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886200" y="6361200"/>
            <a:ext cx="51055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I PREZZ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-76320" y="1020600"/>
            <a:ext cx="2971800" cy="26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GLI SCOSTAMENTI DALL’INCREMENTO MEDIO DEI PREZZI NEL PERIODO 1996/200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819520" y="457200"/>
            <a:ext cx="6324480" cy="5638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124080" y="5791320"/>
            <a:ext cx="441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Fonte: elaborazione C.S. Fipe su dati Ist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3352680" y="990720"/>
            <a:ext cx="5575320" cy="4694040"/>
            <a:chOff x="3352680" y="990720"/>
            <a:chExt cx="5575320" cy="4694040"/>
          </a:xfrm>
        </p:grpSpPr>
        <p:sp>
          <p:nvSpPr>
            <p:cNvPr id="336" name=""/>
            <p:cNvSpPr/>
            <p:nvPr/>
          </p:nvSpPr>
          <p:spPr>
            <a:xfrm>
              <a:off x="3352680" y="990720"/>
              <a:ext cx="5575320" cy="46936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470040" y="1108080"/>
              <a:ext cx="5422320" cy="4575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181200" y="1178280"/>
              <a:ext cx="2206080" cy="117360"/>
            </a:xfrm>
            <a:prstGeom prst="rect">
              <a:avLst/>
            </a:prstGeom>
            <a:solidFill>
              <a:srgbClr val="9999ff"/>
            </a:solidFill>
            <a:ln w="12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181200" y="1448280"/>
              <a:ext cx="1478880" cy="117360"/>
            </a:xfrm>
            <a:prstGeom prst="rect">
              <a:avLst/>
            </a:prstGeom>
            <a:solidFill>
              <a:srgbClr val="9999ff"/>
            </a:solidFill>
            <a:ln w="12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181200" y="1717920"/>
              <a:ext cx="844920" cy="117360"/>
            </a:xfrm>
            <a:prstGeom prst="rect">
              <a:avLst/>
            </a:prstGeom>
            <a:solidFill>
              <a:srgbClr val="9999ff"/>
            </a:solidFill>
            <a:ln w="12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181200" y="1987920"/>
              <a:ext cx="691920" cy="117360"/>
            </a:xfrm>
            <a:prstGeom prst="rect">
              <a:avLst/>
            </a:prstGeom>
            <a:solidFill>
              <a:srgbClr val="9999ff"/>
            </a:solidFill>
            <a:ln w="12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181200" y="2257920"/>
              <a:ext cx="469080" cy="117000"/>
            </a:xfrm>
            <a:prstGeom prst="rect">
              <a:avLst/>
            </a:prstGeom>
            <a:solidFill>
              <a:srgbClr val="9999ff"/>
            </a:solidFill>
            <a:ln w="12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181200" y="2528280"/>
              <a:ext cx="469080" cy="116640"/>
            </a:xfrm>
            <a:prstGeom prst="rect">
              <a:avLst/>
            </a:prstGeom>
            <a:solidFill>
              <a:srgbClr val="9999ff"/>
            </a:solidFill>
            <a:ln w="12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181200" y="2797920"/>
              <a:ext cx="246240" cy="116640"/>
            </a:xfrm>
            <a:prstGeom prst="rect">
              <a:avLst/>
            </a:prstGeom>
            <a:solidFill>
              <a:srgbClr val="9999ff"/>
            </a:solidFill>
            <a:ln w="12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181200" y="3067920"/>
              <a:ext cx="246240" cy="116640"/>
            </a:xfrm>
            <a:prstGeom prst="rect">
              <a:avLst/>
            </a:prstGeom>
            <a:solidFill>
              <a:srgbClr val="9999ff"/>
            </a:solidFill>
            <a:ln w="12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181200" y="3337920"/>
              <a:ext cx="234720" cy="105120"/>
            </a:xfrm>
            <a:prstGeom prst="rect">
              <a:avLst/>
            </a:prstGeom>
            <a:solidFill>
              <a:srgbClr val="9999ff"/>
            </a:solidFill>
            <a:ln w="12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81200" y="3595320"/>
              <a:ext cx="211320" cy="117360"/>
            </a:xfrm>
            <a:prstGeom prst="rect">
              <a:avLst/>
            </a:prstGeom>
            <a:solidFill>
              <a:srgbClr val="9999ff"/>
            </a:solidFill>
            <a:ln w="12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181200" y="3865320"/>
              <a:ext cx="211320" cy="117360"/>
            </a:xfrm>
            <a:prstGeom prst="rect">
              <a:avLst/>
            </a:prstGeom>
            <a:solidFill>
              <a:srgbClr val="9999ff"/>
            </a:solidFill>
            <a:ln w="12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181200" y="4134960"/>
              <a:ext cx="140760" cy="117360"/>
            </a:xfrm>
            <a:prstGeom prst="rect">
              <a:avLst/>
            </a:prstGeom>
            <a:solidFill>
              <a:srgbClr val="9999ff"/>
            </a:solidFill>
            <a:ln w="12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146280" y="4405680"/>
              <a:ext cx="34920" cy="116640"/>
            </a:xfrm>
            <a:prstGeom prst="rect">
              <a:avLst/>
            </a:prstGeom>
            <a:solidFill>
              <a:srgbClr val="9999ff"/>
            </a:solidFill>
            <a:ln w="12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911200" y="4675320"/>
              <a:ext cx="269640" cy="116640"/>
            </a:xfrm>
            <a:prstGeom prst="rect">
              <a:avLst/>
            </a:prstGeom>
            <a:solidFill>
              <a:srgbClr val="9999ff"/>
            </a:solidFill>
            <a:ln w="12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664960" y="4945320"/>
              <a:ext cx="516240" cy="116640"/>
            </a:xfrm>
            <a:prstGeom prst="rect">
              <a:avLst/>
            </a:prstGeom>
            <a:solidFill>
              <a:srgbClr val="9999ff"/>
            </a:solidFill>
            <a:ln w="12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617800" y="5214960"/>
              <a:ext cx="563400" cy="117360"/>
            </a:xfrm>
            <a:prstGeom prst="rect">
              <a:avLst/>
            </a:prstGeom>
            <a:solidFill>
              <a:srgbClr val="9999ff"/>
            </a:solidFill>
            <a:ln w="12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786840" y="5484960"/>
              <a:ext cx="2394360" cy="117360"/>
            </a:xfrm>
            <a:prstGeom prst="rect">
              <a:avLst/>
            </a:prstGeom>
            <a:solidFill>
              <a:srgbClr val="9999ff"/>
            </a:solidFill>
            <a:ln w="12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181200" y="1108080"/>
              <a:ext cx="360" cy="4575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157800" y="1108080"/>
              <a:ext cx="23400" cy="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157800" y="1377720"/>
              <a:ext cx="23400" cy="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157800" y="1647720"/>
              <a:ext cx="23400" cy="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157800" y="1917360"/>
              <a:ext cx="23400" cy="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157800" y="2188080"/>
              <a:ext cx="23400" cy="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157800" y="2457720"/>
              <a:ext cx="23400" cy="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157800" y="2727720"/>
              <a:ext cx="23400" cy="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157800" y="2997360"/>
              <a:ext cx="23400" cy="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157800" y="3267360"/>
              <a:ext cx="23400" cy="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157800" y="3524760"/>
              <a:ext cx="23400" cy="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157800" y="3794760"/>
              <a:ext cx="23400" cy="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157800" y="4065120"/>
              <a:ext cx="23400" cy="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157800" y="4335120"/>
              <a:ext cx="23400" cy="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157800" y="4604760"/>
              <a:ext cx="23400" cy="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157800" y="4874760"/>
              <a:ext cx="23400" cy="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157800" y="5144760"/>
              <a:ext cx="23400" cy="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157800" y="5414400"/>
              <a:ext cx="23400" cy="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157800" y="5684400"/>
              <a:ext cx="23400" cy="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705080" y="142524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0,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072200" y="168264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6,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18120" y="196380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5,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695640" y="222228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3,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695640" y="250488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3,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473520" y="276228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,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473520" y="304488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,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460560" y="330228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,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438600" y="356040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,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438600" y="384192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,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367320" y="410040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,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862680" y="4381560"/>
              <a:ext cx="264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-0,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8006040" y="4640400"/>
              <a:ext cx="264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-2,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980480" y="4920840"/>
              <a:ext cx="264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-3,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006040" y="5180040"/>
              <a:ext cx="264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-4,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7063920" y="5460840"/>
              <a:ext cx="349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-17,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8408160" y="112068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6,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728320" y="1177920"/>
              <a:ext cx="3542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Small Fonts"/>
                </a:rPr>
                <a:t>Alberghi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088600" y="1447560"/>
              <a:ext cx="9363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Small Fonts"/>
                </a:rPr>
                <a:t>Altri servizi di alloggio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362120" y="1717560"/>
              <a:ext cx="1567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Small Fonts"/>
                </a:rPr>
                <a:t>ABITAZIONE, ACQUA, ELETTR., COMB.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681800" y="1987200"/>
              <a:ext cx="13068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Small Fonts"/>
                </a:rPr>
                <a:t>ALBERGHI E PUBBLICI ESERCIZI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187880" y="2257200"/>
              <a:ext cx="17168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Small Fonts"/>
                </a:rPr>
                <a:t>SERVIZI SANITARI E SPESE PER LA SALUT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596480" y="2529000"/>
              <a:ext cx="1369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Small Fonts"/>
                </a:rPr>
                <a:t>BEVANDE ALCOLICHE, TABACCHI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397480" y="2798640"/>
              <a:ext cx="662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Small Fonts"/>
                </a:rPr>
                <a:t>Pubblici esercizi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184720" y="3068640"/>
              <a:ext cx="834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Small Fonts"/>
                </a:rPr>
                <a:t>BENI E SERVIZI VARI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551920" y="3338280"/>
              <a:ext cx="512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Small Fonts"/>
                </a:rPr>
                <a:t>ISTRUZION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269320" y="3606840"/>
              <a:ext cx="7704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Small Fonts"/>
                </a:rPr>
                <a:t>Ristoranti,pizzerie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666680" y="3876480"/>
              <a:ext cx="1289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Small Fonts"/>
                </a:rPr>
                <a:t>ABBIGLIAMENTO E CALZATUR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116680" y="4146480"/>
              <a:ext cx="9183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700" spc="-1" strike="noStrike">
                  <a:solidFill>
                    <a:srgbClr val="000000"/>
                  </a:solidFill>
                  <a:latin typeface="Small Fonts"/>
                </a:rPr>
                <a:t> </a:t>
              </a:r>
              <a:r>
                <a:rPr b="0" lang="it-IT" sz="700" spc="-1" strike="noStrike">
                  <a:solidFill>
                    <a:srgbClr val="000000"/>
                  </a:solidFill>
                  <a:latin typeface="Small Fonts"/>
                </a:rPr>
                <a:t>Caffe' espresso al ba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273360" y="4416480"/>
              <a:ext cx="465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Small Fonts"/>
                </a:rPr>
                <a:t>TRASPORTI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298560" y="4686120"/>
              <a:ext cx="14882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Small Fonts"/>
                </a:rPr>
                <a:t>MOBILI, ARRED., SERV. PER LA CAS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315480" y="4956120"/>
              <a:ext cx="1419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Small Fonts"/>
                </a:rPr>
                <a:t>ALIMENTARI E BEV. ANALCOLICH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296400" y="5225760"/>
              <a:ext cx="15962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Small Fonts"/>
                </a:rPr>
                <a:t>RICREAZIONE, SPETTACOLO, CULTUR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262920" y="5495760"/>
              <a:ext cx="7275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Small Fonts"/>
                </a:rPr>
                <a:t>COMUNICAZIONI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8" name=""/>
          <p:cNvSpPr/>
          <p:nvPr/>
        </p:nvSpPr>
        <p:spPr>
          <a:xfrm>
            <a:off x="3790800" y="2819520"/>
            <a:ext cx="1600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057560" y="4191120"/>
            <a:ext cx="10670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210200" y="3619440"/>
            <a:ext cx="10666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2" name="Fipetif" descr=""/>
          <p:cNvPicPr/>
          <p:nvPr/>
        </p:nvPicPr>
        <p:blipFill>
          <a:blip r:embed="rId1"/>
          <a:stretch/>
        </p:blipFill>
        <p:spPr>
          <a:xfrm>
            <a:off x="344520" y="6324480"/>
            <a:ext cx="382680" cy="45720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/>
          <p:nvPr/>
        </p:nvSpPr>
        <p:spPr>
          <a:xfrm>
            <a:off x="762120" y="6416640"/>
            <a:ext cx="21333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FEDERAZIONE ITALIAN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PUBBLICI ESERCIZ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886200" y="6361200"/>
            <a:ext cx="51055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I PREZZ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-114480" y="152280"/>
            <a:ext cx="937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LA DINAMICA DEL PREZZO DELLA TAZZINA DI CAFFE’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val. %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04920" y="5943600"/>
            <a:ext cx="441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8f8f8"/>
                </a:solidFill>
                <a:latin typeface="Arial"/>
              </a:rPr>
              <a:t>Fonte: elaborazione C.S. Fipe su dati Ist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7" name=""/>
          <p:cNvGraphicFramePr/>
          <p:nvPr/>
        </p:nvGraphicFramePr>
        <p:xfrm>
          <a:off x="228600" y="1459080"/>
          <a:ext cx="8610480" cy="45608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41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1459080"/>
                    <a:ext cx="8610480" cy="456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9" name=""/>
          <p:cNvSpPr/>
          <p:nvPr/>
        </p:nvSpPr>
        <p:spPr>
          <a:xfrm>
            <a:off x="7010280" y="2463840"/>
            <a:ext cx="16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zzina di caffè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705720" y="3987720"/>
            <a:ext cx="167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era econom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066680" y="668160"/>
            <a:ext cx="7010640" cy="785520"/>
          </a:xfrm>
          <a:prstGeom prst="rect">
            <a:avLst/>
          </a:prstGeom>
          <a:noFill/>
          <a:ln w="93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Arial"/>
              </a:rPr>
              <a:t>(var. ’02/’9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Arial"/>
              </a:rPr>
              <a:t>tazzina di caffè = 17,6            intera economia = 14,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3" name="Fipetif" descr=""/>
          <p:cNvPicPr/>
          <p:nvPr/>
        </p:nvPicPr>
        <p:blipFill>
          <a:blip r:embed="rId1"/>
          <a:stretch/>
        </p:blipFill>
        <p:spPr>
          <a:xfrm>
            <a:off x="344520" y="6324480"/>
            <a:ext cx="382680" cy="457200"/>
          </a:xfrm>
          <a:prstGeom prst="rect">
            <a:avLst/>
          </a:prstGeom>
          <a:ln w="0">
            <a:noFill/>
          </a:ln>
        </p:spPr>
      </p:pic>
      <p:sp>
        <p:nvSpPr>
          <p:cNvPr id="424" name=""/>
          <p:cNvSpPr/>
          <p:nvPr/>
        </p:nvSpPr>
        <p:spPr>
          <a:xfrm>
            <a:off x="762120" y="6416640"/>
            <a:ext cx="21333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FEDERAZIONE ITALIAN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PUBBLICI ESERCIZ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886200" y="6361200"/>
            <a:ext cx="51055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I PREZZ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-114480" y="152280"/>
            <a:ext cx="9372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LBERGHI E PUBBLICI ESERCIZI: IL POTERE DI ACQUISTO DELLE FAMIGLIE TRA IL 1992 E IL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04920" y="5943600"/>
            <a:ext cx="441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8f8f8"/>
                </a:solidFill>
                <a:latin typeface="Arial"/>
              </a:rPr>
              <a:t>Fonte: elaborazione C.S. Fipe su dati Ist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28600" y="2057400"/>
            <a:ext cx="8686800" cy="27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9" name="" descr=""/>
          <p:cNvPicPr/>
          <p:nvPr/>
        </p:nvPicPr>
        <p:blipFill>
          <a:blip r:embed="rId2"/>
          <a:stretch/>
        </p:blipFill>
        <p:spPr>
          <a:xfrm>
            <a:off x="-76320" y="2273400"/>
            <a:ext cx="9448920" cy="267948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strips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09480" y="0"/>
            <a:ext cx="8001000" cy="9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PESA DELLE FAMIGLI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prezzi 1995 - N.I. 1970=10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0" y="1219320"/>
            <a:ext cx="9144000" cy="4800600"/>
            <a:chOff x="0" y="1219320"/>
            <a:chExt cx="9144000" cy="4800600"/>
          </a:xfrm>
        </p:grpSpPr>
        <p:sp>
          <p:nvSpPr>
            <p:cNvPr id="59" name=""/>
            <p:cNvSpPr/>
            <p:nvPr/>
          </p:nvSpPr>
          <p:spPr>
            <a:xfrm>
              <a:off x="0" y="1219320"/>
              <a:ext cx="9144000" cy="480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0" name=""/>
            <p:cNvGraphicFramePr/>
            <p:nvPr/>
          </p:nvGraphicFramePr>
          <p:xfrm>
            <a:off x="0" y="1409760"/>
            <a:ext cx="7315200" cy="457344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1409760"/>
                      <a:ext cx="7315200" cy="4573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2" name=""/>
            <p:cNvSpPr/>
            <p:nvPr/>
          </p:nvSpPr>
          <p:spPr>
            <a:xfrm>
              <a:off x="6934320" y="4724280"/>
              <a:ext cx="1981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cc"/>
                  </a:solidFill>
                  <a:latin typeface="Arial"/>
                </a:rPr>
                <a:t>Bevande alcoliche e tabacch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086600" y="4191120"/>
              <a:ext cx="2057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Arial"/>
                </a:rPr>
                <a:t>Alimentari e bevande non alcolich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086600" y="2743200"/>
              <a:ext cx="1600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cc"/>
                  </a:solidFill>
                  <a:latin typeface="Arial"/>
                </a:rPr>
                <a:t>Totale consum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781680" y="1523880"/>
              <a:ext cx="1981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3300"/>
                  </a:solidFill>
                  <a:latin typeface="Arial"/>
                </a:rPr>
                <a:t>Ricreazione e cultur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010280" y="2286000"/>
              <a:ext cx="1981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9933"/>
                  </a:solidFill>
                  <a:latin typeface="Arial"/>
                </a:rPr>
                <a:t>Ristorazi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Fipetif" descr=""/>
          <p:cNvPicPr/>
          <p:nvPr/>
        </p:nvPicPr>
        <p:blipFill>
          <a:blip r:embed="rId3"/>
          <a:stretch/>
        </p:blipFill>
        <p:spPr>
          <a:xfrm>
            <a:off x="344520" y="6324480"/>
            <a:ext cx="382680" cy="4572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762120" y="6416640"/>
            <a:ext cx="21333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FEDERAZIONE ITALIAN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PUBBLICI ESERCIZ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886200" y="6361200"/>
            <a:ext cx="51055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LA DOMAN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Fipetif" descr=""/>
          <p:cNvPicPr/>
          <p:nvPr/>
        </p:nvPicPr>
        <p:blipFill>
          <a:blip r:embed="rId1"/>
          <a:stretch/>
        </p:blipFill>
        <p:spPr>
          <a:xfrm>
            <a:off x="344520" y="6324480"/>
            <a:ext cx="382680" cy="4572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62120" y="6416640"/>
            <a:ext cx="21333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FEDERAZIONE ITALIAN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PUBBLICI ESERCIZ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886200" y="6361200"/>
            <a:ext cx="51055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LA DOMAN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19040" y="76320"/>
            <a:ext cx="80010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LE DINAMICHE DI LUNGO PERIODO</a:t>
            </a:r>
            <a:br>
              <a:rPr sz="2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spesa delle famiglie a prezzi costant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543480" y="990720"/>
            <a:ext cx="2857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ffff"/>
                </a:solidFill>
                <a:latin typeface="Arial"/>
              </a:rPr>
              <a:t>var 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ffff"/>
                </a:solidFill>
                <a:latin typeface="Arial"/>
              </a:rPr>
              <a:t>2000/19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86680" y="990720"/>
            <a:ext cx="2857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ffff"/>
                </a:solidFill>
                <a:latin typeface="Arial"/>
              </a:rPr>
              <a:t>T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ffff"/>
                </a:solidFill>
                <a:latin typeface="Arial"/>
              </a:rPr>
              <a:t>(%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543480" y="1752480"/>
            <a:ext cx="2857320" cy="39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Arial"/>
              </a:rPr>
              <a:t>33,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Arial"/>
              </a:rPr>
              <a:t>18,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Arial"/>
              </a:rPr>
              <a:t>200,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Arial"/>
              </a:rPr>
              <a:t>140,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Arial"/>
              </a:rPr>
              <a:t>127,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286680" y="1752480"/>
            <a:ext cx="2857320" cy="39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Arial"/>
              </a:rPr>
              <a:t>1,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Arial"/>
              </a:rPr>
              <a:t>0,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Arial"/>
              </a:rPr>
              <a:t>3,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Arial"/>
              </a:rPr>
              <a:t>3,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Arial"/>
              </a:rPr>
              <a:t>2,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04920" y="914400"/>
            <a:ext cx="77724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920" y="1828800"/>
            <a:ext cx="77724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52280" y="4952880"/>
            <a:ext cx="815364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320" y="5791320"/>
            <a:ext cx="84582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04920" y="1752480"/>
            <a:ext cx="4572000" cy="463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8f8f8"/>
                </a:solidFill>
                <a:latin typeface="Arial"/>
              </a:rPr>
              <a:t>Alimentari e bevande non alcolich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8f8f8"/>
                </a:solidFill>
                <a:latin typeface="Arial"/>
              </a:rPr>
              <a:t>Bevande alcoliche e tabacchi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1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8f8f8"/>
                </a:solidFill>
                <a:latin typeface="Arial"/>
              </a:rPr>
              <a:t>Ricreazione e cultura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8f8f8"/>
                </a:solidFill>
                <a:latin typeface="Arial"/>
              </a:rPr>
              <a:t>Ristorazion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8f8f8"/>
                </a:solidFill>
                <a:latin typeface="Arial"/>
              </a:rPr>
              <a:t>Tota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Fipetif" descr=""/>
          <p:cNvPicPr/>
          <p:nvPr/>
        </p:nvPicPr>
        <p:blipFill>
          <a:blip r:embed="rId1"/>
          <a:stretch/>
        </p:blipFill>
        <p:spPr>
          <a:xfrm>
            <a:off x="344520" y="6324480"/>
            <a:ext cx="382680" cy="457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762120" y="6416640"/>
            <a:ext cx="21333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FEDERAZIONE ITALIAN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PUBBLICI ESERCIZ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86200" y="6361200"/>
            <a:ext cx="51055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LA DOMAN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19040" y="243000"/>
            <a:ext cx="8001000" cy="9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. . .  DI MEDIO TERM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spesa delle famiglie a prezzi costanti - var. % sull’anno preceden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343080" y="1736640"/>
          <a:ext cx="8458200" cy="42832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3080" y="1736640"/>
                    <a:ext cx="8458200" cy="428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2095560" y="21448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Ristora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095560" y="25830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ff"/>
                </a:solidFill>
                <a:latin typeface="Arial"/>
              </a:rPr>
              <a:t>Tot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828800" y="2201760"/>
            <a:ext cx="228600" cy="228600"/>
          </a:xfrm>
          <a:prstGeom prst="diamond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905120" y="2658960"/>
            <a:ext cx="15228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Fipetif" descr=""/>
          <p:cNvPicPr/>
          <p:nvPr/>
        </p:nvPicPr>
        <p:blipFill>
          <a:blip r:embed="rId1"/>
          <a:stretch/>
        </p:blipFill>
        <p:spPr>
          <a:xfrm>
            <a:off x="344520" y="6324480"/>
            <a:ext cx="382680" cy="4572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62120" y="6416640"/>
            <a:ext cx="21333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FEDERAZIONE ITALIAN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PUBBLICI ESERCIZ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86200" y="6361200"/>
            <a:ext cx="51055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LA DOMAN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228600" y="1981080"/>
          <a:ext cx="4343400" cy="27432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1981080"/>
                    <a:ext cx="434340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4876920" y="1905120"/>
          <a:ext cx="4267080" cy="2819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876920" y="1905120"/>
                    <a:ext cx="4267080" cy="28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2362320" y="2286000"/>
            <a:ext cx="167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UANTITA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781680" y="2286000"/>
            <a:ext cx="16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EZZ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04920" y="5334120"/>
            <a:ext cx="22096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ffff"/>
                </a:solidFill>
                <a:latin typeface="Arial"/>
              </a:rPr>
              <a:t>(*) sti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ffff"/>
                </a:solidFill>
                <a:latin typeface="Arial"/>
              </a:rPr>
              <a:t>(**) previs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19040" y="243000"/>
            <a:ext cx="8001000" cy="9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. . .  E DI BRE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spesa delle famiglie a prezzi costanti - var. % sull’anno preceden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Fipetif" descr=""/>
          <p:cNvPicPr/>
          <p:nvPr/>
        </p:nvPicPr>
        <p:blipFill>
          <a:blip r:embed="rId1"/>
          <a:stretch/>
        </p:blipFill>
        <p:spPr>
          <a:xfrm>
            <a:off x="344520" y="6324480"/>
            <a:ext cx="382680" cy="4572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762120" y="6416640"/>
            <a:ext cx="21333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FEDERAZIONE ITALIAN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PUBBLICI ESERCIZ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886200" y="6361200"/>
            <a:ext cx="51055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LA DOMAN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255600"/>
            <a:ext cx="93726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L’EVOLUZIONE DEL CONSUMO ALIMENTARE FUORI CASA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peso % sul totale dei consumi alimentar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457200" y="1585800"/>
            <a:ext cx="8001000" cy="3824280"/>
            <a:chOff x="457200" y="1585800"/>
            <a:chExt cx="8001000" cy="3824280"/>
          </a:xfrm>
        </p:grpSpPr>
        <p:graphicFrame>
          <p:nvGraphicFramePr>
            <p:cNvPr id="114" name=""/>
            <p:cNvGraphicFramePr/>
            <p:nvPr/>
          </p:nvGraphicFramePr>
          <p:xfrm>
            <a:off x="457200" y="1585800"/>
            <a:ext cx="7924680" cy="3824280"/>
          </p:xfrm>
          <a:graphic>
            <a:graphicData uri="http://schemas.openxmlformats.org/presentationml/2006/ole">
              <p:oleObj progId="Excel.Sheet.12" r:id="rId2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57200" y="1585800"/>
                      <a:ext cx="7924680" cy="3824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6" name=""/>
            <p:cNvSpPr/>
            <p:nvPr/>
          </p:nvSpPr>
          <p:spPr>
            <a:xfrm flipV="1">
              <a:off x="6019920" y="4141440"/>
              <a:ext cx="22860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248520" y="4141800"/>
              <a:ext cx="22860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6477120" y="4141440"/>
              <a:ext cx="38088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162920" y="4370400"/>
              <a:ext cx="129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evisi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553080" y="4419720"/>
              <a:ext cx="60984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cc"/>
                  </a:solidFill>
                  <a:latin typeface="Arial"/>
                </a:rPr>
                <a:t>203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trips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Fipetif" descr=""/>
          <p:cNvPicPr/>
          <p:nvPr/>
        </p:nvPicPr>
        <p:blipFill>
          <a:blip r:embed="rId1"/>
          <a:stretch/>
        </p:blipFill>
        <p:spPr>
          <a:xfrm>
            <a:off x="344520" y="6324480"/>
            <a:ext cx="382680" cy="4572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762120" y="6416640"/>
            <a:ext cx="21333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FEDERAZIONE ITALIAN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PUBBLICI ESERCIZ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886200" y="6361200"/>
            <a:ext cx="51055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LA DOMAN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-114480" y="152280"/>
            <a:ext cx="9372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PESA MEDIA MENSILE EFFETTIVA PER FAMIGLIA IN PASTI E CONSUMAZIONI FUORI CA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4920" y="5943600"/>
            <a:ext cx="441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8f8f8"/>
                </a:solidFill>
                <a:latin typeface="Arial"/>
              </a:rPr>
              <a:t>Fonte: elaborazione C.S. Fipe su dati Ist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8600" y="2057400"/>
            <a:ext cx="8686800" cy="27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380880" y="2371680"/>
            <a:ext cx="8458200" cy="21733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228600" y="1752480"/>
            <a:ext cx="441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valori in eu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5T08:56:33Z</dcterms:created>
  <dc:creator>Renata</dc:creator>
  <dc:description/>
  <dc:language>en-US</dc:language>
  <cp:lastModifiedBy>Renata</cp:lastModifiedBy>
  <dcterms:modified xsi:type="dcterms:W3CDTF">2002-09-27T14:04:32Z</dcterms:modified>
  <cp:revision>21</cp:revision>
  <dc:subject/>
  <dc:title>Presentazione di PowerPoint</dc:title>
</cp:coreProperties>
</file>