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27E9-5FB6-475D-A086-E05E1A3AF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918F-BE3F-4D81-9BF0-9BCF7948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6664-46C1-4D82-8C01-042C321E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0357-0085-4936-86E7-5FDEF6387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8D94-E45B-4C31-A8DB-973F6B63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A2A2-CA2B-4AC9-883A-BCF22E6B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C87B-6978-4B38-85B1-37A9BB51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3FCE-09EA-4C5F-912A-707776F1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1BF2-187C-466F-A477-F8EFE3E4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895F-932D-47AA-BECC-F3A783B8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E996-AFC3-446F-95D2-6C0CA96E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7757-E2F7-4062-A2C5-B0ECB582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523C-1C62-41FF-BB96-A5D4BCD1E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wmf"/><Relationship Id="rId3" Type="http://schemas.openxmlformats.org/officeDocument/2006/relationships/slide" Target=""/><Relationship Id="rId4" Type="http://schemas.openxmlformats.org/officeDocument/2006/relationships/image" Target="../media/image2.wmf"/><Relationship Id="rId5" Type="http://schemas.openxmlformats.org/officeDocument/2006/relationships/slide" Target=""/><Relationship Id="rId6" Type="http://schemas.openxmlformats.org/officeDocument/2006/relationships/image" Target="../media/image3.wmf"/><Relationship Id="rId7" Type="http://schemas.openxmlformats.org/officeDocument/2006/relationships/slide" Target="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image" Target="../media/image6.wmf"/><Relationship Id="rId11" Type="http://schemas.openxmlformats.org/officeDocument/2006/relationships/image" Target="../media/image7.wmf"/><Relationship Id="rId12" Type="http://schemas.openxmlformats.org/officeDocument/2006/relationships/image" Target="../media/image8.wmf"/><Relationship Id="rId13" Type="http://schemas.openxmlformats.org/officeDocument/2006/relationships/image" Target="../media/image9.wmf"/><Relationship Id="rId14" Type="http://schemas.openxmlformats.org/officeDocument/2006/relationships/image" Target="../media/image10.wmf"/><Relationship Id="rId15" Type="http://schemas.openxmlformats.org/officeDocument/2006/relationships/slide" Target=""/><Relationship Id="rId16" Type="http://schemas.openxmlformats.org/officeDocument/2006/relationships/image" Target="../media/image11.wmf"/><Relationship Id="rId17" Type="http://schemas.openxmlformats.org/officeDocument/2006/relationships/image" Target="../media/image12.wmf"/><Relationship Id="rId18" Type="http://schemas.openxmlformats.org/officeDocument/2006/relationships/slide" Target=""/><Relationship Id="rId19" Type="http://schemas.openxmlformats.org/officeDocument/2006/relationships/image" Target="../media/image13.wmf"/><Relationship Id="rId20" Type="http://schemas.openxmlformats.org/officeDocument/2006/relationships/image" Target="../media/image14.png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68760" y="1011240"/>
            <a:ext cx="513000" cy="306360"/>
          </a:xfrm>
          <a:custGeom>
            <a:avLst/>
            <a:gdLst/>
            <a:ahLst/>
            <a:rect l="l" t="t" r="r" b="b"/>
            <a:pathLst>
              <a:path w="323" h="193">
                <a:moveTo>
                  <a:pt x="323" y="193"/>
                </a:moveTo>
                <a:lnTo>
                  <a:pt x="321" y="174"/>
                </a:lnTo>
                <a:lnTo>
                  <a:pt x="318" y="154"/>
                </a:lnTo>
                <a:lnTo>
                  <a:pt x="309" y="134"/>
                </a:lnTo>
                <a:lnTo>
                  <a:pt x="298" y="116"/>
                </a:lnTo>
                <a:lnTo>
                  <a:pt x="283" y="99"/>
                </a:lnTo>
                <a:lnTo>
                  <a:pt x="267" y="82"/>
                </a:lnTo>
                <a:lnTo>
                  <a:pt x="248" y="68"/>
                </a:lnTo>
                <a:lnTo>
                  <a:pt x="226" y="54"/>
                </a:lnTo>
                <a:lnTo>
                  <a:pt x="205" y="43"/>
                </a:lnTo>
                <a:lnTo>
                  <a:pt x="179" y="32"/>
                </a:lnTo>
                <a:lnTo>
                  <a:pt x="152" y="22"/>
                </a:lnTo>
                <a:lnTo>
                  <a:pt x="124" y="14"/>
                </a:lnTo>
                <a:lnTo>
                  <a:pt x="95" y="7"/>
                </a:lnTo>
                <a:lnTo>
                  <a:pt x="64" y="4"/>
                </a:lnTo>
                <a:lnTo>
                  <a:pt x="33" y="0"/>
                </a:lnTo>
                <a:lnTo>
                  <a:pt x="0" y="0"/>
                </a:lnTo>
                <a:lnTo>
                  <a:pt x="0" y="22"/>
                </a:lnTo>
                <a:lnTo>
                  <a:pt x="31" y="22"/>
                </a:lnTo>
                <a:lnTo>
                  <a:pt x="62" y="25"/>
                </a:lnTo>
                <a:lnTo>
                  <a:pt x="91" y="29"/>
                </a:lnTo>
                <a:lnTo>
                  <a:pt x="119" y="34"/>
                </a:lnTo>
                <a:lnTo>
                  <a:pt x="146" y="43"/>
                </a:lnTo>
                <a:lnTo>
                  <a:pt x="170" y="52"/>
                </a:lnTo>
                <a:lnTo>
                  <a:pt x="194" y="61"/>
                </a:lnTo>
                <a:lnTo>
                  <a:pt x="216" y="73"/>
                </a:lnTo>
                <a:lnTo>
                  <a:pt x="236" y="86"/>
                </a:lnTo>
                <a:lnTo>
                  <a:pt x="252" y="99"/>
                </a:lnTo>
                <a:lnTo>
                  <a:pt x="267" y="113"/>
                </a:lnTo>
                <a:lnTo>
                  <a:pt x="279" y="129"/>
                </a:lnTo>
                <a:lnTo>
                  <a:pt x="289" y="143"/>
                </a:lnTo>
                <a:lnTo>
                  <a:pt x="296" y="159"/>
                </a:lnTo>
                <a:lnTo>
                  <a:pt x="301" y="177"/>
                </a:lnTo>
                <a:lnTo>
                  <a:pt x="301" y="193"/>
                </a:lnTo>
                <a:lnTo>
                  <a:pt x="323" y="193"/>
                </a:lnTo>
                <a:close/>
              </a:path>
            </a:pathLst>
          </a:cu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68760" y="1317600"/>
            <a:ext cx="513000" cy="311040"/>
          </a:xfrm>
          <a:custGeom>
            <a:avLst/>
            <a:gdLst/>
            <a:ahLst/>
            <a:rect l="l" t="t" r="r" b="b"/>
            <a:pathLst>
              <a:path w="323" h="196">
                <a:moveTo>
                  <a:pt x="0" y="196"/>
                </a:moveTo>
                <a:lnTo>
                  <a:pt x="33" y="194"/>
                </a:lnTo>
                <a:lnTo>
                  <a:pt x="64" y="190"/>
                </a:lnTo>
                <a:lnTo>
                  <a:pt x="95" y="187"/>
                </a:lnTo>
                <a:lnTo>
                  <a:pt x="124" y="180"/>
                </a:lnTo>
                <a:lnTo>
                  <a:pt x="152" y="172"/>
                </a:lnTo>
                <a:lnTo>
                  <a:pt x="179" y="163"/>
                </a:lnTo>
                <a:lnTo>
                  <a:pt x="205" y="153"/>
                </a:lnTo>
                <a:lnTo>
                  <a:pt x="226" y="140"/>
                </a:lnTo>
                <a:lnTo>
                  <a:pt x="248" y="126"/>
                </a:lnTo>
                <a:lnTo>
                  <a:pt x="267" y="112"/>
                </a:lnTo>
                <a:lnTo>
                  <a:pt x="283" y="95"/>
                </a:lnTo>
                <a:lnTo>
                  <a:pt x="298" y="77"/>
                </a:lnTo>
                <a:lnTo>
                  <a:pt x="309" y="60"/>
                </a:lnTo>
                <a:lnTo>
                  <a:pt x="318" y="42"/>
                </a:lnTo>
                <a:lnTo>
                  <a:pt x="321" y="22"/>
                </a:lnTo>
                <a:lnTo>
                  <a:pt x="323" y="0"/>
                </a:lnTo>
                <a:lnTo>
                  <a:pt x="301" y="0"/>
                </a:lnTo>
                <a:lnTo>
                  <a:pt x="301" y="18"/>
                </a:lnTo>
                <a:lnTo>
                  <a:pt x="296" y="35"/>
                </a:lnTo>
                <a:lnTo>
                  <a:pt x="289" y="51"/>
                </a:lnTo>
                <a:lnTo>
                  <a:pt x="279" y="65"/>
                </a:lnTo>
                <a:lnTo>
                  <a:pt x="267" y="81"/>
                </a:lnTo>
                <a:lnTo>
                  <a:pt x="252" y="95"/>
                </a:lnTo>
                <a:lnTo>
                  <a:pt x="236" y="108"/>
                </a:lnTo>
                <a:lnTo>
                  <a:pt x="216" y="120"/>
                </a:lnTo>
                <a:lnTo>
                  <a:pt x="194" y="133"/>
                </a:lnTo>
                <a:lnTo>
                  <a:pt x="170" y="142"/>
                </a:lnTo>
                <a:lnTo>
                  <a:pt x="146" y="151"/>
                </a:lnTo>
                <a:lnTo>
                  <a:pt x="119" y="160"/>
                </a:lnTo>
                <a:lnTo>
                  <a:pt x="91" y="165"/>
                </a:lnTo>
                <a:lnTo>
                  <a:pt x="62" y="171"/>
                </a:lnTo>
                <a:lnTo>
                  <a:pt x="31" y="172"/>
                </a:lnTo>
                <a:lnTo>
                  <a:pt x="0" y="174"/>
                </a:lnTo>
                <a:lnTo>
                  <a:pt x="0" y="196"/>
                </a:lnTo>
                <a:close/>
              </a:path>
            </a:pathLst>
          </a:cu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56120" y="1317600"/>
            <a:ext cx="512640" cy="311040"/>
          </a:xfrm>
          <a:custGeom>
            <a:avLst/>
            <a:gdLst/>
            <a:ahLst/>
            <a:rect l="l" t="t" r="r" b="b"/>
            <a:pathLst>
              <a:path w="323" h="196">
                <a:moveTo>
                  <a:pt x="0" y="0"/>
                </a:moveTo>
                <a:lnTo>
                  <a:pt x="2" y="22"/>
                </a:lnTo>
                <a:lnTo>
                  <a:pt x="5" y="42"/>
                </a:lnTo>
                <a:lnTo>
                  <a:pt x="14" y="60"/>
                </a:lnTo>
                <a:lnTo>
                  <a:pt x="25" y="77"/>
                </a:lnTo>
                <a:lnTo>
                  <a:pt x="40" y="95"/>
                </a:lnTo>
                <a:lnTo>
                  <a:pt x="56" y="112"/>
                </a:lnTo>
                <a:lnTo>
                  <a:pt x="75" y="126"/>
                </a:lnTo>
                <a:lnTo>
                  <a:pt x="97" y="140"/>
                </a:lnTo>
                <a:lnTo>
                  <a:pt x="119" y="153"/>
                </a:lnTo>
                <a:lnTo>
                  <a:pt x="144" y="163"/>
                </a:lnTo>
                <a:lnTo>
                  <a:pt x="171" y="172"/>
                </a:lnTo>
                <a:lnTo>
                  <a:pt x="199" y="180"/>
                </a:lnTo>
                <a:lnTo>
                  <a:pt x="228" y="187"/>
                </a:lnTo>
                <a:lnTo>
                  <a:pt x="259" y="190"/>
                </a:lnTo>
                <a:lnTo>
                  <a:pt x="290" y="194"/>
                </a:lnTo>
                <a:lnTo>
                  <a:pt x="323" y="196"/>
                </a:lnTo>
                <a:lnTo>
                  <a:pt x="323" y="174"/>
                </a:lnTo>
                <a:lnTo>
                  <a:pt x="292" y="172"/>
                </a:lnTo>
                <a:lnTo>
                  <a:pt x="261" y="171"/>
                </a:lnTo>
                <a:lnTo>
                  <a:pt x="232" y="165"/>
                </a:lnTo>
                <a:lnTo>
                  <a:pt x="204" y="160"/>
                </a:lnTo>
                <a:lnTo>
                  <a:pt x="177" y="151"/>
                </a:lnTo>
                <a:lnTo>
                  <a:pt x="153" y="142"/>
                </a:lnTo>
                <a:lnTo>
                  <a:pt x="129" y="133"/>
                </a:lnTo>
                <a:lnTo>
                  <a:pt x="108" y="120"/>
                </a:lnTo>
                <a:lnTo>
                  <a:pt x="87" y="108"/>
                </a:lnTo>
                <a:lnTo>
                  <a:pt x="71" y="95"/>
                </a:lnTo>
                <a:lnTo>
                  <a:pt x="56" y="81"/>
                </a:lnTo>
                <a:lnTo>
                  <a:pt x="44" y="65"/>
                </a:lnTo>
                <a:lnTo>
                  <a:pt x="35" y="51"/>
                </a:lnTo>
                <a:lnTo>
                  <a:pt x="27" y="35"/>
                </a:lnTo>
                <a:lnTo>
                  <a:pt x="22" y="18"/>
                </a:lnTo>
                <a:lnTo>
                  <a:pt x="2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56120" y="1011240"/>
            <a:ext cx="512640" cy="306360"/>
          </a:xfrm>
          <a:custGeom>
            <a:avLst/>
            <a:gdLst/>
            <a:ahLst/>
            <a:rect l="l" t="t" r="r" b="b"/>
            <a:pathLst>
              <a:path w="323" h="193">
                <a:moveTo>
                  <a:pt x="323" y="0"/>
                </a:moveTo>
                <a:lnTo>
                  <a:pt x="290" y="0"/>
                </a:lnTo>
                <a:lnTo>
                  <a:pt x="259" y="4"/>
                </a:lnTo>
                <a:lnTo>
                  <a:pt x="228" y="7"/>
                </a:lnTo>
                <a:lnTo>
                  <a:pt x="199" y="14"/>
                </a:lnTo>
                <a:lnTo>
                  <a:pt x="171" y="22"/>
                </a:lnTo>
                <a:lnTo>
                  <a:pt x="144" y="32"/>
                </a:lnTo>
                <a:lnTo>
                  <a:pt x="119" y="43"/>
                </a:lnTo>
                <a:lnTo>
                  <a:pt x="97" y="54"/>
                </a:lnTo>
                <a:lnTo>
                  <a:pt x="75" y="68"/>
                </a:lnTo>
                <a:lnTo>
                  <a:pt x="56" y="82"/>
                </a:lnTo>
                <a:lnTo>
                  <a:pt x="40" y="99"/>
                </a:lnTo>
                <a:lnTo>
                  <a:pt x="25" y="116"/>
                </a:lnTo>
                <a:lnTo>
                  <a:pt x="14" y="134"/>
                </a:lnTo>
                <a:lnTo>
                  <a:pt x="5" y="154"/>
                </a:lnTo>
                <a:lnTo>
                  <a:pt x="2" y="174"/>
                </a:lnTo>
                <a:lnTo>
                  <a:pt x="0" y="193"/>
                </a:lnTo>
                <a:lnTo>
                  <a:pt x="22" y="193"/>
                </a:lnTo>
                <a:lnTo>
                  <a:pt x="22" y="177"/>
                </a:lnTo>
                <a:lnTo>
                  <a:pt x="27" y="159"/>
                </a:lnTo>
                <a:lnTo>
                  <a:pt x="35" y="143"/>
                </a:lnTo>
                <a:lnTo>
                  <a:pt x="44" y="129"/>
                </a:lnTo>
                <a:lnTo>
                  <a:pt x="56" y="113"/>
                </a:lnTo>
                <a:lnTo>
                  <a:pt x="71" y="99"/>
                </a:lnTo>
                <a:lnTo>
                  <a:pt x="87" y="86"/>
                </a:lnTo>
                <a:lnTo>
                  <a:pt x="108" y="73"/>
                </a:lnTo>
                <a:lnTo>
                  <a:pt x="129" y="61"/>
                </a:lnTo>
                <a:lnTo>
                  <a:pt x="153" y="52"/>
                </a:lnTo>
                <a:lnTo>
                  <a:pt x="177" y="43"/>
                </a:lnTo>
                <a:lnTo>
                  <a:pt x="204" y="34"/>
                </a:lnTo>
                <a:lnTo>
                  <a:pt x="232" y="29"/>
                </a:lnTo>
                <a:lnTo>
                  <a:pt x="261" y="25"/>
                </a:lnTo>
                <a:lnTo>
                  <a:pt x="292" y="22"/>
                </a:lnTo>
                <a:lnTo>
                  <a:pt x="323" y="22"/>
                </a:lnTo>
                <a:lnTo>
                  <a:pt x="323" y="0"/>
                </a:lnTo>
                <a:close/>
              </a:path>
            </a:pathLst>
          </a:cu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78320" y="954000"/>
            <a:ext cx="173160" cy="36720"/>
          </a:xfrm>
          <a:custGeom>
            <a:avLst/>
            <a:gdLst/>
            <a:ahLst/>
            <a:rect l="l" t="t" r="r" b="b"/>
            <a:pathLst>
              <a:path w="109" h="23">
                <a:moveTo>
                  <a:pt x="0" y="23"/>
                </a:moveTo>
                <a:lnTo>
                  <a:pt x="34" y="23"/>
                </a:lnTo>
                <a:lnTo>
                  <a:pt x="109" y="22"/>
                </a:lnTo>
                <a:lnTo>
                  <a:pt x="109" y="0"/>
                </a:lnTo>
                <a:lnTo>
                  <a:pt x="32" y="2"/>
                </a:lnTo>
                <a:lnTo>
                  <a:pt x="0" y="4"/>
                </a:lnTo>
                <a:lnTo>
                  <a:pt x="0" y="23"/>
                </a:lnTo>
                <a:close/>
              </a:path>
            </a:pathLst>
          </a:cu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29120" y="968400"/>
            <a:ext cx="174600" cy="54000"/>
          </a:xfrm>
          <a:custGeom>
            <a:avLst/>
            <a:gdLst/>
            <a:ahLst/>
            <a:rect l="l" t="t" r="r" b="b"/>
            <a:pathLst>
              <a:path w="110" h="34">
                <a:moveTo>
                  <a:pt x="2" y="34"/>
                </a:moveTo>
                <a:lnTo>
                  <a:pt x="33" y="31"/>
                </a:lnTo>
                <a:lnTo>
                  <a:pt x="106" y="22"/>
                </a:lnTo>
                <a:lnTo>
                  <a:pt x="110" y="22"/>
                </a:lnTo>
                <a:lnTo>
                  <a:pt x="110" y="0"/>
                </a:lnTo>
                <a:lnTo>
                  <a:pt x="104" y="2"/>
                </a:lnTo>
                <a:lnTo>
                  <a:pt x="31" y="9"/>
                </a:lnTo>
                <a:lnTo>
                  <a:pt x="0" y="13"/>
                </a:lnTo>
                <a:lnTo>
                  <a:pt x="2" y="34"/>
                </a:lnTo>
                <a:close/>
              </a:path>
            </a:pathLst>
          </a:cu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84600" y="1014480"/>
            <a:ext cx="176040" cy="71280"/>
          </a:xfrm>
          <a:custGeom>
            <a:avLst/>
            <a:gdLst/>
            <a:ahLst/>
            <a:rect l="l" t="t" r="r" b="b"/>
            <a:pathLst>
              <a:path w="111" h="45">
                <a:moveTo>
                  <a:pt x="6" y="45"/>
                </a:moveTo>
                <a:lnTo>
                  <a:pt x="42" y="36"/>
                </a:lnTo>
                <a:lnTo>
                  <a:pt x="110" y="21"/>
                </a:lnTo>
                <a:lnTo>
                  <a:pt x="111" y="21"/>
                </a:lnTo>
                <a:lnTo>
                  <a:pt x="108" y="0"/>
                </a:lnTo>
                <a:lnTo>
                  <a:pt x="106" y="2"/>
                </a:lnTo>
                <a:lnTo>
                  <a:pt x="38" y="14"/>
                </a:lnTo>
                <a:lnTo>
                  <a:pt x="0" y="23"/>
                </a:lnTo>
                <a:lnTo>
                  <a:pt x="6" y="45"/>
                </a:lnTo>
                <a:close/>
              </a:path>
            </a:pathLst>
          </a:cu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48000" y="1093680"/>
            <a:ext cx="177840" cy="85680"/>
          </a:xfrm>
          <a:custGeom>
            <a:avLst/>
            <a:gdLst/>
            <a:ahLst/>
            <a:rect l="l" t="t" r="r" b="b"/>
            <a:pathLst>
              <a:path w="112" h="54">
                <a:moveTo>
                  <a:pt x="8" y="54"/>
                </a:moveTo>
                <a:lnTo>
                  <a:pt x="59" y="36"/>
                </a:lnTo>
                <a:lnTo>
                  <a:pt x="112" y="21"/>
                </a:lnTo>
                <a:lnTo>
                  <a:pt x="106" y="0"/>
                </a:lnTo>
                <a:lnTo>
                  <a:pt x="53" y="16"/>
                </a:lnTo>
                <a:lnTo>
                  <a:pt x="0" y="32"/>
                </a:lnTo>
                <a:lnTo>
                  <a:pt x="8" y="54"/>
                </a:lnTo>
                <a:close/>
              </a:path>
            </a:pathLst>
          </a:cu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27240" y="1208160"/>
            <a:ext cx="169920" cy="101520"/>
          </a:xfrm>
          <a:custGeom>
            <a:avLst/>
            <a:gdLst/>
            <a:ahLst/>
            <a:rect l="l" t="t" r="r" b="b"/>
            <a:pathLst>
              <a:path w="107" h="64">
                <a:moveTo>
                  <a:pt x="9" y="64"/>
                </a:moveTo>
                <a:lnTo>
                  <a:pt x="27" y="55"/>
                </a:lnTo>
                <a:lnTo>
                  <a:pt x="84" y="30"/>
                </a:lnTo>
                <a:lnTo>
                  <a:pt x="107" y="19"/>
                </a:lnTo>
                <a:lnTo>
                  <a:pt x="100" y="0"/>
                </a:lnTo>
                <a:lnTo>
                  <a:pt x="74" y="10"/>
                </a:lnTo>
                <a:lnTo>
                  <a:pt x="18" y="35"/>
                </a:lnTo>
                <a:lnTo>
                  <a:pt x="0" y="44"/>
                </a:lnTo>
                <a:lnTo>
                  <a:pt x="9" y="64"/>
                </a:lnTo>
                <a:close/>
              </a:path>
            </a:pathLst>
          </a:cu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25560" y="1363680"/>
            <a:ext cx="165240" cy="122400"/>
          </a:xfrm>
          <a:custGeom>
            <a:avLst/>
            <a:gdLst/>
            <a:ahLst/>
            <a:rect l="l" t="t" r="r" b="b"/>
            <a:pathLst>
              <a:path w="104" h="77">
                <a:moveTo>
                  <a:pt x="12" y="77"/>
                </a:moveTo>
                <a:lnTo>
                  <a:pt x="20" y="72"/>
                </a:lnTo>
                <a:lnTo>
                  <a:pt x="65" y="41"/>
                </a:lnTo>
                <a:lnTo>
                  <a:pt x="104" y="18"/>
                </a:lnTo>
                <a:lnTo>
                  <a:pt x="93" y="0"/>
                </a:lnTo>
                <a:lnTo>
                  <a:pt x="54" y="23"/>
                </a:lnTo>
                <a:lnTo>
                  <a:pt x="7" y="54"/>
                </a:lnTo>
                <a:lnTo>
                  <a:pt x="0" y="59"/>
                </a:lnTo>
                <a:lnTo>
                  <a:pt x="12" y="77"/>
                </a:lnTo>
                <a:close/>
              </a:path>
            </a:pathLst>
          </a:cu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63840" y="1565280"/>
            <a:ext cx="147600" cy="142920"/>
          </a:xfrm>
          <a:custGeom>
            <a:avLst/>
            <a:gdLst/>
            <a:ahLst/>
            <a:rect l="l" t="t" r="r" b="b"/>
            <a:pathLst>
              <a:path w="93" h="90">
                <a:moveTo>
                  <a:pt x="17" y="90"/>
                </a:moveTo>
                <a:lnTo>
                  <a:pt x="28" y="79"/>
                </a:lnTo>
                <a:lnTo>
                  <a:pt x="62" y="43"/>
                </a:lnTo>
                <a:lnTo>
                  <a:pt x="93" y="16"/>
                </a:lnTo>
                <a:lnTo>
                  <a:pt x="79" y="0"/>
                </a:lnTo>
                <a:lnTo>
                  <a:pt x="48" y="29"/>
                </a:lnTo>
                <a:lnTo>
                  <a:pt x="11" y="65"/>
                </a:lnTo>
                <a:lnTo>
                  <a:pt x="0" y="76"/>
                </a:lnTo>
                <a:lnTo>
                  <a:pt x="17" y="90"/>
                </a:lnTo>
                <a:close/>
              </a:path>
            </a:pathLst>
          </a:cu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70160" y="1822320"/>
            <a:ext cx="115920" cy="166680"/>
          </a:xfrm>
          <a:custGeom>
            <a:avLst/>
            <a:gdLst/>
            <a:ahLst/>
            <a:rect l="l" t="t" r="r" b="b"/>
            <a:pathLst>
              <a:path w="73" h="105">
                <a:moveTo>
                  <a:pt x="20" y="105"/>
                </a:moveTo>
                <a:lnTo>
                  <a:pt x="38" y="68"/>
                </a:lnTo>
                <a:lnTo>
                  <a:pt x="62" y="28"/>
                </a:lnTo>
                <a:lnTo>
                  <a:pt x="73" y="12"/>
                </a:lnTo>
                <a:lnTo>
                  <a:pt x="55" y="0"/>
                </a:lnTo>
                <a:lnTo>
                  <a:pt x="44" y="17"/>
                </a:lnTo>
                <a:lnTo>
                  <a:pt x="20" y="57"/>
                </a:lnTo>
                <a:lnTo>
                  <a:pt x="0" y="94"/>
                </a:lnTo>
                <a:lnTo>
                  <a:pt x="20" y="105"/>
                </a:lnTo>
                <a:close/>
              </a:path>
            </a:pathLst>
          </a:cu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3840" y="2139840"/>
            <a:ext cx="52560" cy="173160"/>
          </a:xfrm>
          <a:custGeom>
            <a:avLst/>
            <a:gdLst/>
            <a:ahLst/>
            <a:rect l="l" t="t" r="r" b="b"/>
            <a:pathLst>
              <a:path w="33" h="109">
                <a:moveTo>
                  <a:pt x="22" y="109"/>
                </a:moveTo>
                <a:lnTo>
                  <a:pt x="22" y="93"/>
                </a:lnTo>
                <a:lnTo>
                  <a:pt x="24" y="72"/>
                </a:lnTo>
                <a:lnTo>
                  <a:pt x="26" y="50"/>
                </a:lnTo>
                <a:lnTo>
                  <a:pt x="30" y="29"/>
                </a:lnTo>
                <a:lnTo>
                  <a:pt x="33" y="9"/>
                </a:lnTo>
                <a:lnTo>
                  <a:pt x="33" y="6"/>
                </a:lnTo>
                <a:lnTo>
                  <a:pt x="13" y="0"/>
                </a:lnTo>
                <a:lnTo>
                  <a:pt x="11" y="4"/>
                </a:lnTo>
                <a:lnTo>
                  <a:pt x="8" y="25"/>
                </a:lnTo>
                <a:lnTo>
                  <a:pt x="4" y="47"/>
                </a:lnTo>
                <a:lnTo>
                  <a:pt x="2" y="70"/>
                </a:lnTo>
                <a:lnTo>
                  <a:pt x="0" y="91"/>
                </a:lnTo>
                <a:lnTo>
                  <a:pt x="0" y="108"/>
                </a:lnTo>
                <a:lnTo>
                  <a:pt x="22" y="109"/>
                </a:lnTo>
                <a:close/>
              </a:path>
            </a:pathLst>
          </a:cu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2478240"/>
            <a:ext cx="85680" cy="174600"/>
          </a:xfrm>
          <a:custGeom>
            <a:avLst/>
            <a:gdLst/>
            <a:ahLst/>
            <a:rect l="l" t="t" r="r" b="b"/>
            <a:pathLst>
              <a:path w="54" h="110">
                <a:moveTo>
                  <a:pt x="54" y="101"/>
                </a:moveTo>
                <a:lnTo>
                  <a:pt x="42" y="68"/>
                </a:lnTo>
                <a:lnTo>
                  <a:pt x="34" y="49"/>
                </a:lnTo>
                <a:lnTo>
                  <a:pt x="29" y="27"/>
                </a:lnTo>
                <a:lnTo>
                  <a:pt x="23" y="7"/>
                </a:lnTo>
                <a:lnTo>
                  <a:pt x="22" y="0"/>
                </a:lnTo>
                <a:lnTo>
                  <a:pt x="0" y="4"/>
                </a:lnTo>
                <a:lnTo>
                  <a:pt x="1" y="11"/>
                </a:lnTo>
                <a:lnTo>
                  <a:pt x="7" y="33"/>
                </a:lnTo>
                <a:lnTo>
                  <a:pt x="12" y="54"/>
                </a:lnTo>
                <a:lnTo>
                  <a:pt x="20" y="76"/>
                </a:lnTo>
                <a:lnTo>
                  <a:pt x="34" y="110"/>
                </a:lnTo>
                <a:lnTo>
                  <a:pt x="54" y="101"/>
                </a:lnTo>
                <a:close/>
              </a:path>
            </a:pathLst>
          </a:cu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44680" y="2786040"/>
            <a:ext cx="133560" cy="155520"/>
          </a:xfrm>
          <a:custGeom>
            <a:avLst/>
            <a:gdLst/>
            <a:ahLst/>
            <a:rect l="l" t="t" r="r" b="b"/>
            <a:pathLst>
              <a:path w="84" h="98">
                <a:moveTo>
                  <a:pt x="84" y="86"/>
                </a:moveTo>
                <a:lnTo>
                  <a:pt x="70" y="68"/>
                </a:lnTo>
                <a:lnTo>
                  <a:pt x="41" y="32"/>
                </a:lnTo>
                <a:lnTo>
                  <a:pt x="19" y="0"/>
                </a:lnTo>
                <a:lnTo>
                  <a:pt x="0" y="12"/>
                </a:lnTo>
                <a:lnTo>
                  <a:pt x="22" y="45"/>
                </a:lnTo>
                <a:lnTo>
                  <a:pt x="53" y="82"/>
                </a:lnTo>
                <a:lnTo>
                  <a:pt x="68" y="98"/>
                </a:lnTo>
                <a:lnTo>
                  <a:pt x="84" y="86"/>
                </a:lnTo>
                <a:close/>
              </a:path>
            </a:pathLst>
          </a:cu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75080" y="3041640"/>
            <a:ext cx="158760" cy="133200"/>
          </a:xfrm>
          <a:custGeom>
            <a:avLst/>
            <a:gdLst/>
            <a:ahLst/>
            <a:rect l="l" t="t" r="r" b="b"/>
            <a:pathLst>
              <a:path w="100" h="84">
                <a:moveTo>
                  <a:pt x="100" y="66"/>
                </a:moveTo>
                <a:lnTo>
                  <a:pt x="71" y="47"/>
                </a:lnTo>
                <a:lnTo>
                  <a:pt x="31" y="13"/>
                </a:lnTo>
                <a:lnTo>
                  <a:pt x="16" y="0"/>
                </a:lnTo>
                <a:lnTo>
                  <a:pt x="0" y="14"/>
                </a:lnTo>
                <a:lnTo>
                  <a:pt x="16" y="29"/>
                </a:lnTo>
                <a:lnTo>
                  <a:pt x="58" y="63"/>
                </a:lnTo>
                <a:lnTo>
                  <a:pt x="86" y="84"/>
                </a:lnTo>
                <a:lnTo>
                  <a:pt x="100" y="66"/>
                </a:lnTo>
                <a:close/>
              </a:path>
            </a:pathLst>
          </a:cu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59120" y="3240000"/>
            <a:ext cx="168120" cy="114480"/>
          </a:xfrm>
          <a:custGeom>
            <a:avLst/>
            <a:gdLst/>
            <a:ahLst/>
            <a:rect l="l" t="t" r="r" b="b"/>
            <a:pathLst>
              <a:path w="106" h="72">
                <a:moveTo>
                  <a:pt x="106" y="52"/>
                </a:moveTo>
                <a:lnTo>
                  <a:pt x="80" y="40"/>
                </a:lnTo>
                <a:lnTo>
                  <a:pt x="31" y="13"/>
                </a:lnTo>
                <a:lnTo>
                  <a:pt x="11" y="0"/>
                </a:lnTo>
                <a:lnTo>
                  <a:pt x="0" y="18"/>
                </a:lnTo>
                <a:lnTo>
                  <a:pt x="18" y="31"/>
                </a:lnTo>
                <a:lnTo>
                  <a:pt x="71" y="59"/>
                </a:lnTo>
                <a:lnTo>
                  <a:pt x="95" y="72"/>
                </a:lnTo>
                <a:lnTo>
                  <a:pt x="106" y="52"/>
                </a:lnTo>
                <a:close/>
              </a:path>
            </a:pathLst>
          </a:cu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68720" y="3397320"/>
            <a:ext cx="176040" cy="93600"/>
          </a:xfrm>
          <a:custGeom>
            <a:avLst/>
            <a:gdLst/>
            <a:ahLst/>
            <a:rect l="l" t="t" r="r" b="b"/>
            <a:pathLst>
              <a:path w="111" h="59">
                <a:moveTo>
                  <a:pt x="111" y="39"/>
                </a:moveTo>
                <a:lnTo>
                  <a:pt x="51" y="16"/>
                </a:lnTo>
                <a:lnTo>
                  <a:pt x="9" y="0"/>
                </a:lnTo>
                <a:lnTo>
                  <a:pt x="0" y="20"/>
                </a:lnTo>
                <a:lnTo>
                  <a:pt x="44" y="37"/>
                </a:lnTo>
                <a:lnTo>
                  <a:pt x="102" y="59"/>
                </a:lnTo>
                <a:lnTo>
                  <a:pt x="111" y="39"/>
                </a:lnTo>
                <a:close/>
              </a:path>
            </a:pathLst>
          </a:cu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98840" y="3511440"/>
            <a:ext cx="177840" cy="76320"/>
          </a:xfrm>
          <a:custGeom>
            <a:avLst/>
            <a:gdLst/>
            <a:ahLst/>
            <a:rect l="l" t="t" r="r" b="b"/>
            <a:pathLst>
              <a:path w="112" h="48">
                <a:moveTo>
                  <a:pt x="112" y="26"/>
                </a:moveTo>
                <a:lnTo>
                  <a:pt x="93" y="23"/>
                </a:lnTo>
                <a:lnTo>
                  <a:pt x="28" y="7"/>
                </a:lnTo>
                <a:lnTo>
                  <a:pt x="6" y="0"/>
                </a:lnTo>
                <a:lnTo>
                  <a:pt x="0" y="19"/>
                </a:lnTo>
                <a:lnTo>
                  <a:pt x="22" y="26"/>
                </a:lnTo>
                <a:lnTo>
                  <a:pt x="88" y="44"/>
                </a:lnTo>
                <a:lnTo>
                  <a:pt x="106" y="48"/>
                </a:lnTo>
                <a:lnTo>
                  <a:pt x="112" y="26"/>
                </a:lnTo>
                <a:close/>
              </a:path>
            </a:pathLst>
          </a:cu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38680" y="3591000"/>
            <a:ext cx="176040" cy="58680"/>
          </a:xfrm>
          <a:custGeom>
            <a:avLst/>
            <a:gdLst/>
            <a:ahLst/>
            <a:rect l="l" t="t" r="r" b="b"/>
            <a:pathLst>
              <a:path w="111" h="37">
                <a:moveTo>
                  <a:pt x="111" y="18"/>
                </a:moveTo>
                <a:lnTo>
                  <a:pt x="82" y="12"/>
                </a:lnTo>
                <a:lnTo>
                  <a:pt x="13" y="1"/>
                </a:lnTo>
                <a:lnTo>
                  <a:pt x="4" y="0"/>
                </a:lnTo>
                <a:lnTo>
                  <a:pt x="0" y="21"/>
                </a:lnTo>
                <a:lnTo>
                  <a:pt x="9" y="23"/>
                </a:lnTo>
                <a:lnTo>
                  <a:pt x="80" y="34"/>
                </a:lnTo>
                <a:lnTo>
                  <a:pt x="109" y="37"/>
                </a:lnTo>
                <a:lnTo>
                  <a:pt x="111" y="18"/>
                </a:lnTo>
                <a:close/>
              </a:path>
            </a:pathLst>
          </a:cu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83200" y="3635280"/>
            <a:ext cx="177840" cy="49320"/>
          </a:xfrm>
          <a:custGeom>
            <a:avLst/>
            <a:gdLst/>
            <a:ahLst/>
            <a:rect l="l" t="t" r="r" b="b"/>
            <a:pathLst>
              <a:path w="112" h="31">
                <a:moveTo>
                  <a:pt x="112" y="9"/>
                </a:moveTo>
                <a:lnTo>
                  <a:pt x="82" y="7"/>
                </a:lnTo>
                <a:lnTo>
                  <a:pt x="9" y="2"/>
                </a:lnTo>
                <a:lnTo>
                  <a:pt x="4" y="0"/>
                </a:lnTo>
                <a:lnTo>
                  <a:pt x="0" y="22"/>
                </a:lnTo>
                <a:lnTo>
                  <a:pt x="7" y="24"/>
                </a:lnTo>
                <a:lnTo>
                  <a:pt x="81" y="29"/>
                </a:lnTo>
                <a:lnTo>
                  <a:pt x="112" y="31"/>
                </a:lnTo>
                <a:lnTo>
                  <a:pt x="112" y="9"/>
                </a:lnTo>
                <a:close/>
              </a:path>
            </a:pathLst>
          </a:cu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33840" y="3652920"/>
            <a:ext cx="17640" cy="34920"/>
          </a:xfrm>
          <a:prstGeom prst="rect">
            <a:avLst/>
          </a:pr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51480" y="3649680"/>
            <a:ext cx="156960" cy="38160"/>
          </a:xfrm>
          <a:custGeom>
            <a:avLst/>
            <a:gdLst/>
            <a:ahLst/>
            <a:rect l="l" t="t" r="r" b="b"/>
            <a:pathLst>
              <a:path w="99" h="24">
                <a:moveTo>
                  <a:pt x="99" y="0"/>
                </a:moveTo>
                <a:lnTo>
                  <a:pt x="75" y="2"/>
                </a:lnTo>
                <a:lnTo>
                  <a:pt x="0" y="2"/>
                </a:lnTo>
                <a:lnTo>
                  <a:pt x="0" y="24"/>
                </a:lnTo>
                <a:lnTo>
                  <a:pt x="77" y="24"/>
                </a:lnTo>
                <a:lnTo>
                  <a:pt x="99" y="22"/>
                </a:lnTo>
                <a:lnTo>
                  <a:pt x="99" y="0"/>
                </a:lnTo>
                <a:close/>
              </a:path>
            </a:pathLst>
          </a:cu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81600" y="3621240"/>
            <a:ext cx="174600" cy="52200"/>
          </a:xfrm>
          <a:custGeom>
            <a:avLst/>
            <a:gdLst/>
            <a:ahLst/>
            <a:rect l="l" t="t" r="r" b="b"/>
            <a:pathLst>
              <a:path w="110" h="33">
                <a:moveTo>
                  <a:pt x="108" y="0"/>
                </a:moveTo>
                <a:lnTo>
                  <a:pt x="88" y="4"/>
                </a:lnTo>
                <a:lnTo>
                  <a:pt x="15" y="11"/>
                </a:lnTo>
                <a:lnTo>
                  <a:pt x="0" y="11"/>
                </a:lnTo>
                <a:lnTo>
                  <a:pt x="0" y="33"/>
                </a:lnTo>
                <a:lnTo>
                  <a:pt x="17" y="33"/>
                </a:lnTo>
                <a:lnTo>
                  <a:pt x="90" y="25"/>
                </a:lnTo>
                <a:lnTo>
                  <a:pt x="110" y="22"/>
                </a:lnTo>
                <a:lnTo>
                  <a:pt x="108" y="0"/>
                </a:lnTo>
                <a:close/>
              </a:path>
            </a:pathLst>
          </a:cu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24320" y="3562200"/>
            <a:ext cx="176400" cy="68400"/>
          </a:xfrm>
          <a:custGeom>
            <a:avLst/>
            <a:gdLst/>
            <a:ahLst/>
            <a:rect l="l" t="t" r="r" b="b"/>
            <a:pathLst>
              <a:path w="111" h="43">
                <a:moveTo>
                  <a:pt x="106" y="0"/>
                </a:moveTo>
                <a:lnTo>
                  <a:pt x="80" y="7"/>
                </a:lnTo>
                <a:lnTo>
                  <a:pt x="13" y="19"/>
                </a:lnTo>
                <a:lnTo>
                  <a:pt x="0" y="21"/>
                </a:lnTo>
                <a:lnTo>
                  <a:pt x="3" y="43"/>
                </a:lnTo>
                <a:lnTo>
                  <a:pt x="16" y="41"/>
                </a:lnTo>
                <a:lnTo>
                  <a:pt x="84" y="27"/>
                </a:lnTo>
                <a:lnTo>
                  <a:pt x="111" y="21"/>
                </a:lnTo>
                <a:lnTo>
                  <a:pt x="106" y="0"/>
                </a:lnTo>
                <a:close/>
              </a:path>
            </a:pathLst>
          </a:cu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60920" y="3468600"/>
            <a:ext cx="176400" cy="84240"/>
          </a:xfrm>
          <a:custGeom>
            <a:avLst/>
            <a:gdLst/>
            <a:ahLst/>
            <a:rect l="l" t="t" r="r" b="b"/>
            <a:pathLst>
              <a:path w="111" h="53">
                <a:moveTo>
                  <a:pt x="104" y="0"/>
                </a:moveTo>
                <a:lnTo>
                  <a:pt x="63" y="14"/>
                </a:lnTo>
                <a:lnTo>
                  <a:pt x="0" y="32"/>
                </a:lnTo>
                <a:lnTo>
                  <a:pt x="5" y="53"/>
                </a:lnTo>
                <a:lnTo>
                  <a:pt x="69" y="35"/>
                </a:lnTo>
                <a:lnTo>
                  <a:pt x="111" y="21"/>
                </a:lnTo>
                <a:lnTo>
                  <a:pt x="104" y="0"/>
                </a:lnTo>
                <a:close/>
              </a:path>
            </a:pathLst>
          </a:cu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88160" y="3340080"/>
            <a:ext cx="172800" cy="100080"/>
          </a:xfrm>
          <a:custGeom>
            <a:avLst/>
            <a:gdLst/>
            <a:ahLst/>
            <a:rect l="l" t="t" r="r" b="b"/>
            <a:pathLst>
              <a:path w="109" h="63">
                <a:moveTo>
                  <a:pt x="99" y="0"/>
                </a:moveTo>
                <a:lnTo>
                  <a:pt x="89" y="4"/>
                </a:lnTo>
                <a:lnTo>
                  <a:pt x="35" y="29"/>
                </a:lnTo>
                <a:lnTo>
                  <a:pt x="0" y="43"/>
                </a:lnTo>
                <a:lnTo>
                  <a:pt x="7" y="63"/>
                </a:lnTo>
                <a:lnTo>
                  <a:pt x="44" y="48"/>
                </a:lnTo>
                <a:lnTo>
                  <a:pt x="100" y="23"/>
                </a:lnTo>
                <a:lnTo>
                  <a:pt x="109" y="20"/>
                </a:lnTo>
                <a:lnTo>
                  <a:pt x="99" y="0"/>
                </a:lnTo>
                <a:close/>
              </a:path>
            </a:pathLst>
          </a:cu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97760" y="3166920"/>
            <a:ext cx="163440" cy="122400"/>
          </a:xfrm>
          <a:custGeom>
            <a:avLst/>
            <a:gdLst/>
            <a:ahLst/>
            <a:rect l="l" t="t" r="r" b="b"/>
            <a:pathLst>
              <a:path w="103" h="77">
                <a:moveTo>
                  <a:pt x="92" y="0"/>
                </a:moveTo>
                <a:lnTo>
                  <a:pt x="48" y="28"/>
                </a:lnTo>
                <a:lnTo>
                  <a:pt x="0" y="59"/>
                </a:lnTo>
                <a:lnTo>
                  <a:pt x="11" y="77"/>
                </a:lnTo>
                <a:lnTo>
                  <a:pt x="59" y="48"/>
                </a:lnTo>
                <a:lnTo>
                  <a:pt x="103" y="18"/>
                </a:lnTo>
                <a:lnTo>
                  <a:pt x="92" y="0"/>
                </a:lnTo>
                <a:close/>
              </a:path>
            </a:pathLst>
          </a:cu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78560" y="2944800"/>
            <a:ext cx="149400" cy="144360"/>
          </a:xfrm>
          <a:custGeom>
            <a:avLst/>
            <a:gdLst/>
            <a:ahLst/>
            <a:rect l="l" t="t" r="r" b="b"/>
            <a:pathLst>
              <a:path w="94" h="91">
                <a:moveTo>
                  <a:pt x="77" y="0"/>
                </a:moveTo>
                <a:lnTo>
                  <a:pt x="73" y="5"/>
                </a:lnTo>
                <a:lnTo>
                  <a:pt x="39" y="39"/>
                </a:lnTo>
                <a:lnTo>
                  <a:pt x="0" y="74"/>
                </a:lnTo>
                <a:lnTo>
                  <a:pt x="0" y="75"/>
                </a:lnTo>
                <a:lnTo>
                  <a:pt x="13" y="91"/>
                </a:lnTo>
                <a:lnTo>
                  <a:pt x="15" y="90"/>
                </a:lnTo>
                <a:lnTo>
                  <a:pt x="53" y="56"/>
                </a:lnTo>
                <a:lnTo>
                  <a:pt x="90" y="20"/>
                </a:lnTo>
                <a:lnTo>
                  <a:pt x="94" y="16"/>
                </a:lnTo>
                <a:lnTo>
                  <a:pt x="77" y="0"/>
                </a:lnTo>
                <a:close/>
              </a:path>
            </a:pathLst>
          </a:cu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8600" y="2668680"/>
            <a:ext cx="115920" cy="164880"/>
          </a:xfrm>
          <a:custGeom>
            <a:avLst/>
            <a:gdLst/>
            <a:ahLst/>
            <a:rect l="l" t="t" r="r" b="b"/>
            <a:pathLst>
              <a:path w="73" h="104">
                <a:moveTo>
                  <a:pt x="53" y="0"/>
                </a:moveTo>
                <a:lnTo>
                  <a:pt x="40" y="29"/>
                </a:lnTo>
                <a:lnTo>
                  <a:pt x="16" y="67"/>
                </a:lnTo>
                <a:lnTo>
                  <a:pt x="0" y="92"/>
                </a:lnTo>
                <a:lnTo>
                  <a:pt x="18" y="104"/>
                </a:lnTo>
                <a:lnTo>
                  <a:pt x="34" y="79"/>
                </a:lnTo>
                <a:lnTo>
                  <a:pt x="58" y="38"/>
                </a:lnTo>
                <a:lnTo>
                  <a:pt x="73" y="9"/>
                </a:lnTo>
                <a:lnTo>
                  <a:pt x="53" y="0"/>
                </a:lnTo>
                <a:close/>
              </a:path>
            </a:pathLst>
          </a:cu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0080" y="2347920"/>
            <a:ext cx="58680" cy="173160"/>
          </a:xfrm>
          <a:custGeom>
            <a:avLst/>
            <a:gdLst/>
            <a:ahLst/>
            <a:rect l="l" t="t" r="r" b="b"/>
            <a:pathLst>
              <a:path w="37" h="109">
                <a:moveTo>
                  <a:pt x="15" y="0"/>
                </a:moveTo>
                <a:lnTo>
                  <a:pt x="15" y="5"/>
                </a:lnTo>
                <a:lnTo>
                  <a:pt x="13" y="27"/>
                </a:lnTo>
                <a:lnTo>
                  <a:pt x="11" y="46"/>
                </a:lnTo>
                <a:lnTo>
                  <a:pt x="7" y="68"/>
                </a:lnTo>
                <a:lnTo>
                  <a:pt x="4" y="89"/>
                </a:lnTo>
                <a:lnTo>
                  <a:pt x="0" y="104"/>
                </a:lnTo>
                <a:lnTo>
                  <a:pt x="22" y="109"/>
                </a:lnTo>
                <a:lnTo>
                  <a:pt x="26" y="93"/>
                </a:lnTo>
                <a:lnTo>
                  <a:pt x="29" y="72"/>
                </a:lnTo>
                <a:lnTo>
                  <a:pt x="33" y="50"/>
                </a:lnTo>
                <a:lnTo>
                  <a:pt x="35" y="29"/>
                </a:lnTo>
                <a:lnTo>
                  <a:pt x="37" y="5"/>
                </a:lnTo>
                <a:lnTo>
                  <a:pt x="37" y="0"/>
                </a:lnTo>
                <a:lnTo>
                  <a:pt x="15" y="0"/>
                </a:lnTo>
                <a:close/>
              </a:path>
            </a:pathLst>
          </a:cu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11920" y="2006640"/>
            <a:ext cx="84240" cy="173160"/>
          </a:xfrm>
          <a:custGeom>
            <a:avLst/>
            <a:gdLst/>
            <a:ahLst/>
            <a:rect l="l" t="t" r="r" b="b"/>
            <a:pathLst>
              <a:path w="53" h="109">
                <a:moveTo>
                  <a:pt x="0" y="9"/>
                </a:moveTo>
                <a:lnTo>
                  <a:pt x="10" y="30"/>
                </a:lnTo>
                <a:lnTo>
                  <a:pt x="17" y="52"/>
                </a:lnTo>
                <a:lnTo>
                  <a:pt x="22" y="72"/>
                </a:lnTo>
                <a:lnTo>
                  <a:pt x="28" y="93"/>
                </a:lnTo>
                <a:lnTo>
                  <a:pt x="31" y="109"/>
                </a:lnTo>
                <a:lnTo>
                  <a:pt x="53" y="106"/>
                </a:lnTo>
                <a:lnTo>
                  <a:pt x="50" y="88"/>
                </a:lnTo>
                <a:lnTo>
                  <a:pt x="44" y="66"/>
                </a:lnTo>
                <a:lnTo>
                  <a:pt x="39" y="45"/>
                </a:lnTo>
                <a:lnTo>
                  <a:pt x="31" y="23"/>
                </a:lnTo>
                <a:lnTo>
                  <a:pt x="22" y="0"/>
                </a:lnTo>
                <a:lnTo>
                  <a:pt x="0" y="9"/>
                </a:lnTo>
                <a:close/>
              </a:path>
            </a:pathLst>
          </a:cu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35880" y="1712880"/>
            <a:ext cx="129960" cy="157320"/>
          </a:xfrm>
          <a:custGeom>
            <a:avLst/>
            <a:gdLst/>
            <a:ahLst/>
            <a:rect l="l" t="t" r="r" b="b"/>
            <a:pathLst>
              <a:path w="82" h="99">
                <a:moveTo>
                  <a:pt x="0" y="13"/>
                </a:moveTo>
                <a:lnTo>
                  <a:pt x="7" y="22"/>
                </a:lnTo>
                <a:lnTo>
                  <a:pt x="37" y="60"/>
                </a:lnTo>
                <a:lnTo>
                  <a:pt x="62" y="97"/>
                </a:lnTo>
                <a:lnTo>
                  <a:pt x="64" y="99"/>
                </a:lnTo>
                <a:lnTo>
                  <a:pt x="82" y="88"/>
                </a:lnTo>
                <a:lnTo>
                  <a:pt x="80" y="86"/>
                </a:lnTo>
                <a:lnTo>
                  <a:pt x="55" y="47"/>
                </a:lnTo>
                <a:lnTo>
                  <a:pt x="24" y="8"/>
                </a:lnTo>
                <a:lnTo>
                  <a:pt x="16" y="0"/>
                </a:lnTo>
                <a:lnTo>
                  <a:pt x="0" y="13"/>
                </a:lnTo>
                <a:close/>
              </a:path>
            </a:pathLst>
          </a:cu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83160" y="1477800"/>
            <a:ext cx="157320" cy="136800"/>
          </a:xfrm>
          <a:custGeom>
            <a:avLst/>
            <a:gdLst/>
            <a:ahLst/>
            <a:rect l="l" t="t" r="r" b="b"/>
            <a:pathLst>
              <a:path w="99" h="86">
                <a:moveTo>
                  <a:pt x="0" y="18"/>
                </a:moveTo>
                <a:lnTo>
                  <a:pt x="20" y="32"/>
                </a:lnTo>
                <a:lnTo>
                  <a:pt x="60" y="64"/>
                </a:lnTo>
                <a:lnTo>
                  <a:pt x="84" y="86"/>
                </a:lnTo>
                <a:lnTo>
                  <a:pt x="99" y="70"/>
                </a:lnTo>
                <a:lnTo>
                  <a:pt x="75" y="48"/>
                </a:lnTo>
                <a:lnTo>
                  <a:pt x="33" y="14"/>
                </a:lnTo>
                <a:lnTo>
                  <a:pt x="15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1200" y="1295280"/>
            <a:ext cx="169920" cy="114480"/>
          </a:xfrm>
          <a:custGeom>
            <a:avLst/>
            <a:gdLst/>
            <a:ahLst/>
            <a:rect l="l" t="t" r="r" b="b"/>
            <a:pathLst>
              <a:path w="107" h="72">
                <a:moveTo>
                  <a:pt x="0" y="20"/>
                </a:moveTo>
                <a:lnTo>
                  <a:pt x="16" y="27"/>
                </a:lnTo>
                <a:lnTo>
                  <a:pt x="65" y="54"/>
                </a:lnTo>
                <a:lnTo>
                  <a:pt x="95" y="72"/>
                </a:lnTo>
                <a:lnTo>
                  <a:pt x="107" y="54"/>
                </a:lnTo>
                <a:lnTo>
                  <a:pt x="78" y="36"/>
                </a:lnTo>
                <a:lnTo>
                  <a:pt x="25" y="7"/>
                </a:lnTo>
                <a:lnTo>
                  <a:pt x="11" y="0"/>
                </a:lnTo>
                <a:lnTo>
                  <a:pt x="0" y="20"/>
                </a:lnTo>
                <a:close/>
              </a:path>
            </a:pathLst>
          </a:cu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75480" y="1158840"/>
            <a:ext cx="172800" cy="93600"/>
          </a:xfrm>
          <a:custGeom>
            <a:avLst/>
            <a:gdLst/>
            <a:ahLst/>
            <a:rect l="l" t="t" r="r" b="b"/>
            <a:pathLst>
              <a:path w="109" h="59">
                <a:moveTo>
                  <a:pt x="0" y="20"/>
                </a:moveTo>
                <a:lnTo>
                  <a:pt x="49" y="38"/>
                </a:lnTo>
                <a:lnTo>
                  <a:pt x="102" y="59"/>
                </a:lnTo>
                <a:lnTo>
                  <a:pt x="109" y="40"/>
                </a:lnTo>
                <a:lnTo>
                  <a:pt x="56" y="18"/>
                </a:lnTo>
                <a:lnTo>
                  <a:pt x="7" y="0"/>
                </a:lnTo>
                <a:lnTo>
                  <a:pt x="0" y="20"/>
                </a:lnTo>
                <a:close/>
              </a:path>
            </a:pathLst>
          </a:cu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45000" y="1058760"/>
            <a:ext cx="176400" cy="77760"/>
          </a:xfrm>
          <a:custGeom>
            <a:avLst/>
            <a:gdLst/>
            <a:ahLst/>
            <a:rect l="l" t="t" r="r" b="b"/>
            <a:pathLst>
              <a:path w="111" h="49">
                <a:moveTo>
                  <a:pt x="0" y="20"/>
                </a:moveTo>
                <a:lnTo>
                  <a:pt x="7" y="22"/>
                </a:lnTo>
                <a:lnTo>
                  <a:pt x="73" y="40"/>
                </a:lnTo>
                <a:lnTo>
                  <a:pt x="104" y="49"/>
                </a:lnTo>
                <a:lnTo>
                  <a:pt x="111" y="29"/>
                </a:lnTo>
                <a:lnTo>
                  <a:pt x="78" y="18"/>
                </a:lnTo>
                <a:lnTo>
                  <a:pt x="12" y="2"/>
                </a:lnTo>
                <a:lnTo>
                  <a:pt x="5" y="0"/>
                </a:lnTo>
                <a:lnTo>
                  <a:pt x="0" y="20"/>
                </a:lnTo>
                <a:close/>
              </a:path>
            </a:pathLst>
          </a:cu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993600"/>
            <a:ext cx="176040" cy="63720"/>
          </a:xfrm>
          <a:custGeom>
            <a:avLst/>
            <a:gdLst/>
            <a:ahLst/>
            <a:rect l="l" t="t" r="r" b="b"/>
            <a:pathLst>
              <a:path w="111" h="40">
                <a:moveTo>
                  <a:pt x="0" y="22"/>
                </a:moveTo>
                <a:lnTo>
                  <a:pt x="16" y="24"/>
                </a:lnTo>
                <a:lnTo>
                  <a:pt x="88" y="34"/>
                </a:lnTo>
                <a:lnTo>
                  <a:pt x="108" y="40"/>
                </a:lnTo>
                <a:lnTo>
                  <a:pt x="111" y="18"/>
                </a:lnTo>
                <a:lnTo>
                  <a:pt x="91" y="15"/>
                </a:lnTo>
                <a:lnTo>
                  <a:pt x="20" y="2"/>
                </a:lnTo>
                <a:lnTo>
                  <a:pt x="2" y="0"/>
                </a:lnTo>
                <a:lnTo>
                  <a:pt x="0" y="22"/>
                </a:lnTo>
                <a:close/>
              </a:path>
            </a:pathLst>
          </a:cu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61000" y="960480"/>
            <a:ext cx="176040" cy="44280"/>
          </a:xfrm>
          <a:custGeom>
            <a:avLst/>
            <a:gdLst/>
            <a:ahLst/>
            <a:rect l="l" t="t" r="r" b="b"/>
            <a:pathLst>
              <a:path w="111" h="28">
                <a:moveTo>
                  <a:pt x="0" y="21"/>
                </a:moveTo>
                <a:lnTo>
                  <a:pt x="18" y="21"/>
                </a:lnTo>
                <a:lnTo>
                  <a:pt x="91" y="27"/>
                </a:lnTo>
                <a:lnTo>
                  <a:pt x="107" y="28"/>
                </a:lnTo>
                <a:lnTo>
                  <a:pt x="111" y="9"/>
                </a:lnTo>
                <a:lnTo>
                  <a:pt x="93" y="7"/>
                </a:lnTo>
                <a:lnTo>
                  <a:pt x="20" y="2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51480" y="954000"/>
            <a:ext cx="34920" cy="34920"/>
          </a:xfrm>
          <a:prstGeom prst="rect">
            <a:avLst/>
          </a:pr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03680" y="874800"/>
            <a:ext cx="174600" cy="39600"/>
          </a:xfrm>
          <a:custGeom>
            <a:avLst/>
            <a:gdLst/>
            <a:ahLst/>
            <a:rect l="l" t="t" r="r" b="b"/>
            <a:pathLst>
              <a:path w="110" h="25">
                <a:moveTo>
                  <a:pt x="110" y="4"/>
                </a:moveTo>
                <a:lnTo>
                  <a:pt x="102" y="2"/>
                </a:lnTo>
                <a:lnTo>
                  <a:pt x="0" y="0"/>
                </a:lnTo>
                <a:lnTo>
                  <a:pt x="0" y="22"/>
                </a:lnTo>
                <a:lnTo>
                  <a:pt x="100" y="23"/>
                </a:lnTo>
                <a:lnTo>
                  <a:pt x="110" y="25"/>
                </a:lnTo>
                <a:lnTo>
                  <a:pt x="110" y="4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48200" y="888840"/>
            <a:ext cx="177840" cy="47880"/>
          </a:xfrm>
          <a:custGeom>
            <a:avLst/>
            <a:gdLst/>
            <a:ahLst/>
            <a:rect l="l" t="t" r="r" b="b"/>
            <a:pathLst>
              <a:path w="112" h="30">
                <a:moveTo>
                  <a:pt x="112" y="9"/>
                </a:moveTo>
                <a:lnTo>
                  <a:pt x="84" y="7"/>
                </a:lnTo>
                <a:lnTo>
                  <a:pt x="2" y="0"/>
                </a:lnTo>
                <a:lnTo>
                  <a:pt x="0" y="21"/>
                </a:lnTo>
                <a:lnTo>
                  <a:pt x="82" y="29"/>
                </a:lnTo>
                <a:lnTo>
                  <a:pt x="110" y="30"/>
                </a:lnTo>
                <a:lnTo>
                  <a:pt x="112" y="9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94160" y="925560"/>
            <a:ext cx="176400" cy="63360"/>
          </a:xfrm>
          <a:custGeom>
            <a:avLst/>
            <a:gdLst/>
            <a:ahLst/>
            <a:rect l="l" t="t" r="r" b="b"/>
            <a:pathLst>
              <a:path w="111" h="40">
                <a:moveTo>
                  <a:pt x="111" y="18"/>
                </a:moveTo>
                <a:lnTo>
                  <a:pt x="62" y="9"/>
                </a:lnTo>
                <a:lnTo>
                  <a:pt x="3" y="0"/>
                </a:lnTo>
                <a:lnTo>
                  <a:pt x="0" y="22"/>
                </a:lnTo>
                <a:lnTo>
                  <a:pt x="58" y="31"/>
                </a:lnTo>
                <a:lnTo>
                  <a:pt x="107" y="40"/>
                </a:lnTo>
                <a:lnTo>
                  <a:pt x="111" y="18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35800" y="988920"/>
            <a:ext cx="176040" cy="76320"/>
          </a:xfrm>
          <a:custGeom>
            <a:avLst/>
            <a:gdLst/>
            <a:ahLst/>
            <a:rect l="l" t="t" r="r" b="b"/>
            <a:pathLst>
              <a:path w="111" h="48">
                <a:moveTo>
                  <a:pt x="111" y="27"/>
                </a:moveTo>
                <a:lnTo>
                  <a:pt x="33" y="7"/>
                </a:lnTo>
                <a:lnTo>
                  <a:pt x="4" y="0"/>
                </a:lnTo>
                <a:lnTo>
                  <a:pt x="0" y="21"/>
                </a:lnTo>
                <a:lnTo>
                  <a:pt x="27" y="28"/>
                </a:lnTo>
                <a:lnTo>
                  <a:pt x="106" y="48"/>
                </a:lnTo>
                <a:lnTo>
                  <a:pt x="111" y="27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69160" y="1079640"/>
            <a:ext cx="176040" cy="88920"/>
          </a:xfrm>
          <a:custGeom>
            <a:avLst/>
            <a:gdLst/>
            <a:ahLst/>
            <a:rect l="l" t="t" r="r" b="b"/>
            <a:pathLst>
              <a:path w="111" h="56">
                <a:moveTo>
                  <a:pt x="111" y="36"/>
                </a:moveTo>
                <a:lnTo>
                  <a:pt x="86" y="27"/>
                </a:lnTo>
                <a:lnTo>
                  <a:pt x="7" y="0"/>
                </a:lnTo>
                <a:lnTo>
                  <a:pt x="0" y="21"/>
                </a:lnTo>
                <a:lnTo>
                  <a:pt x="79" y="47"/>
                </a:lnTo>
                <a:lnTo>
                  <a:pt x="104" y="56"/>
                </a:lnTo>
                <a:lnTo>
                  <a:pt x="111" y="36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94600" y="1198440"/>
            <a:ext cx="172800" cy="103320"/>
          </a:xfrm>
          <a:custGeom>
            <a:avLst/>
            <a:gdLst/>
            <a:ahLst/>
            <a:rect l="l" t="t" r="r" b="b"/>
            <a:pathLst>
              <a:path w="109" h="65">
                <a:moveTo>
                  <a:pt x="109" y="45"/>
                </a:moveTo>
                <a:lnTo>
                  <a:pt x="45" y="16"/>
                </a:lnTo>
                <a:lnTo>
                  <a:pt x="9" y="0"/>
                </a:lnTo>
                <a:lnTo>
                  <a:pt x="0" y="20"/>
                </a:lnTo>
                <a:lnTo>
                  <a:pt x="36" y="36"/>
                </a:lnTo>
                <a:lnTo>
                  <a:pt x="100" y="65"/>
                </a:lnTo>
                <a:lnTo>
                  <a:pt x="109" y="45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07080" y="1346040"/>
            <a:ext cx="165240" cy="117720"/>
          </a:xfrm>
          <a:custGeom>
            <a:avLst/>
            <a:gdLst/>
            <a:ahLst/>
            <a:rect l="l" t="t" r="r" b="b"/>
            <a:pathLst>
              <a:path w="104" h="74">
                <a:moveTo>
                  <a:pt x="104" y="56"/>
                </a:moveTo>
                <a:lnTo>
                  <a:pt x="75" y="36"/>
                </a:lnTo>
                <a:lnTo>
                  <a:pt x="9" y="0"/>
                </a:lnTo>
                <a:lnTo>
                  <a:pt x="0" y="20"/>
                </a:lnTo>
                <a:lnTo>
                  <a:pt x="64" y="56"/>
                </a:lnTo>
                <a:lnTo>
                  <a:pt x="93" y="74"/>
                </a:lnTo>
                <a:lnTo>
                  <a:pt x="104" y="56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99400" y="1528920"/>
            <a:ext cx="160200" cy="129960"/>
          </a:xfrm>
          <a:custGeom>
            <a:avLst/>
            <a:gdLst/>
            <a:ahLst/>
            <a:rect l="l" t="t" r="r" b="b"/>
            <a:pathLst>
              <a:path w="101" h="82">
                <a:moveTo>
                  <a:pt x="101" y="65"/>
                </a:moveTo>
                <a:lnTo>
                  <a:pt x="88" y="56"/>
                </a:lnTo>
                <a:lnTo>
                  <a:pt x="26" y="9"/>
                </a:lnTo>
                <a:lnTo>
                  <a:pt x="13" y="0"/>
                </a:lnTo>
                <a:lnTo>
                  <a:pt x="0" y="18"/>
                </a:lnTo>
                <a:lnTo>
                  <a:pt x="13" y="27"/>
                </a:lnTo>
                <a:lnTo>
                  <a:pt x="75" y="72"/>
                </a:lnTo>
                <a:lnTo>
                  <a:pt x="88" y="82"/>
                </a:lnTo>
                <a:lnTo>
                  <a:pt x="101" y="65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169040" y="1744560"/>
            <a:ext cx="144720" cy="146160"/>
          </a:xfrm>
          <a:custGeom>
            <a:avLst/>
            <a:gdLst/>
            <a:ahLst/>
            <a:rect l="l" t="t" r="r" b="b"/>
            <a:pathLst>
              <a:path w="91" h="92">
                <a:moveTo>
                  <a:pt x="91" y="77"/>
                </a:moveTo>
                <a:lnTo>
                  <a:pt x="86" y="70"/>
                </a:lnTo>
                <a:lnTo>
                  <a:pt x="60" y="43"/>
                </a:lnTo>
                <a:lnTo>
                  <a:pt x="33" y="18"/>
                </a:lnTo>
                <a:lnTo>
                  <a:pt x="15" y="0"/>
                </a:lnTo>
                <a:lnTo>
                  <a:pt x="0" y="16"/>
                </a:lnTo>
                <a:lnTo>
                  <a:pt x="18" y="34"/>
                </a:lnTo>
                <a:lnTo>
                  <a:pt x="44" y="59"/>
                </a:lnTo>
                <a:lnTo>
                  <a:pt x="69" y="84"/>
                </a:lnTo>
                <a:lnTo>
                  <a:pt x="77" y="92"/>
                </a:lnTo>
                <a:lnTo>
                  <a:pt x="91" y="77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00880" y="1998720"/>
            <a:ext cx="127080" cy="158760"/>
          </a:xfrm>
          <a:custGeom>
            <a:avLst/>
            <a:gdLst/>
            <a:ahLst/>
            <a:rect l="l" t="t" r="r" b="b"/>
            <a:pathLst>
              <a:path w="80" h="100">
                <a:moveTo>
                  <a:pt x="80" y="89"/>
                </a:moveTo>
                <a:lnTo>
                  <a:pt x="73" y="77"/>
                </a:lnTo>
                <a:lnTo>
                  <a:pt x="53" y="48"/>
                </a:lnTo>
                <a:lnTo>
                  <a:pt x="33" y="19"/>
                </a:lnTo>
                <a:lnTo>
                  <a:pt x="17" y="0"/>
                </a:lnTo>
                <a:lnTo>
                  <a:pt x="0" y="14"/>
                </a:lnTo>
                <a:lnTo>
                  <a:pt x="15" y="32"/>
                </a:lnTo>
                <a:lnTo>
                  <a:pt x="35" y="60"/>
                </a:lnTo>
                <a:lnTo>
                  <a:pt x="55" y="87"/>
                </a:lnTo>
                <a:lnTo>
                  <a:pt x="62" y="100"/>
                </a:lnTo>
                <a:lnTo>
                  <a:pt x="80" y="89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83400" y="2290680"/>
            <a:ext cx="98640" cy="171360"/>
          </a:xfrm>
          <a:custGeom>
            <a:avLst/>
            <a:gdLst/>
            <a:ahLst/>
            <a:rect l="l" t="t" r="r" b="b"/>
            <a:pathLst>
              <a:path w="62" h="108">
                <a:moveTo>
                  <a:pt x="62" y="100"/>
                </a:moveTo>
                <a:lnTo>
                  <a:pt x="51" y="72"/>
                </a:lnTo>
                <a:lnTo>
                  <a:pt x="39" y="41"/>
                </a:lnTo>
                <a:lnTo>
                  <a:pt x="26" y="11"/>
                </a:lnTo>
                <a:lnTo>
                  <a:pt x="20" y="0"/>
                </a:lnTo>
                <a:lnTo>
                  <a:pt x="0" y="9"/>
                </a:lnTo>
                <a:lnTo>
                  <a:pt x="6" y="20"/>
                </a:lnTo>
                <a:lnTo>
                  <a:pt x="18" y="50"/>
                </a:lnTo>
                <a:lnTo>
                  <a:pt x="31" y="79"/>
                </a:lnTo>
                <a:lnTo>
                  <a:pt x="42" y="108"/>
                </a:lnTo>
                <a:lnTo>
                  <a:pt x="62" y="100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99320" y="2614680"/>
            <a:ext cx="61920" cy="174600"/>
          </a:xfrm>
          <a:custGeom>
            <a:avLst/>
            <a:gdLst/>
            <a:ahLst/>
            <a:rect l="l" t="t" r="r" b="b"/>
            <a:pathLst>
              <a:path w="39" h="110">
                <a:moveTo>
                  <a:pt x="39" y="108"/>
                </a:moveTo>
                <a:lnTo>
                  <a:pt x="37" y="90"/>
                </a:lnTo>
                <a:lnTo>
                  <a:pt x="31" y="58"/>
                </a:lnTo>
                <a:lnTo>
                  <a:pt x="26" y="25"/>
                </a:lnTo>
                <a:lnTo>
                  <a:pt x="20" y="0"/>
                </a:lnTo>
                <a:lnTo>
                  <a:pt x="0" y="6"/>
                </a:lnTo>
                <a:lnTo>
                  <a:pt x="4" y="29"/>
                </a:lnTo>
                <a:lnTo>
                  <a:pt x="11" y="61"/>
                </a:lnTo>
                <a:lnTo>
                  <a:pt x="15" y="93"/>
                </a:lnTo>
                <a:lnTo>
                  <a:pt x="17" y="110"/>
                </a:lnTo>
                <a:lnTo>
                  <a:pt x="39" y="108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713720" y="2959200"/>
            <a:ext cx="52200" cy="169920"/>
          </a:xfrm>
          <a:custGeom>
            <a:avLst/>
            <a:gdLst/>
            <a:ahLst/>
            <a:rect l="l" t="t" r="r" b="b"/>
            <a:pathLst>
              <a:path w="33" h="107">
                <a:moveTo>
                  <a:pt x="22" y="107"/>
                </a:moveTo>
                <a:lnTo>
                  <a:pt x="22" y="104"/>
                </a:lnTo>
                <a:lnTo>
                  <a:pt x="28" y="72"/>
                </a:lnTo>
                <a:lnTo>
                  <a:pt x="31" y="38"/>
                </a:lnTo>
                <a:lnTo>
                  <a:pt x="33" y="5"/>
                </a:lnTo>
                <a:lnTo>
                  <a:pt x="33" y="0"/>
                </a:lnTo>
                <a:lnTo>
                  <a:pt x="11" y="0"/>
                </a:lnTo>
                <a:lnTo>
                  <a:pt x="11" y="5"/>
                </a:lnTo>
                <a:lnTo>
                  <a:pt x="9" y="36"/>
                </a:lnTo>
                <a:lnTo>
                  <a:pt x="6" y="68"/>
                </a:lnTo>
                <a:lnTo>
                  <a:pt x="2" y="100"/>
                </a:lnTo>
                <a:lnTo>
                  <a:pt x="0" y="104"/>
                </a:lnTo>
                <a:lnTo>
                  <a:pt x="22" y="107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18320" y="3289320"/>
            <a:ext cx="93600" cy="173160"/>
          </a:xfrm>
          <a:custGeom>
            <a:avLst/>
            <a:gdLst/>
            <a:ahLst/>
            <a:rect l="l" t="t" r="r" b="b"/>
            <a:pathLst>
              <a:path w="59" h="109">
                <a:moveTo>
                  <a:pt x="20" y="109"/>
                </a:moveTo>
                <a:lnTo>
                  <a:pt x="29" y="86"/>
                </a:lnTo>
                <a:lnTo>
                  <a:pt x="42" y="55"/>
                </a:lnTo>
                <a:lnTo>
                  <a:pt x="53" y="23"/>
                </a:lnTo>
                <a:lnTo>
                  <a:pt x="59" y="5"/>
                </a:lnTo>
                <a:lnTo>
                  <a:pt x="37" y="0"/>
                </a:lnTo>
                <a:lnTo>
                  <a:pt x="31" y="18"/>
                </a:lnTo>
                <a:lnTo>
                  <a:pt x="22" y="48"/>
                </a:lnTo>
                <a:lnTo>
                  <a:pt x="9" y="79"/>
                </a:lnTo>
                <a:lnTo>
                  <a:pt x="0" y="100"/>
                </a:lnTo>
                <a:lnTo>
                  <a:pt x="20" y="109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50200" y="3598920"/>
            <a:ext cx="125280" cy="162000"/>
          </a:xfrm>
          <a:custGeom>
            <a:avLst/>
            <a:gdLst/>
            <a:ahLst/>
            <a:rect l="l" t="t" r="r" b="b"/>
            <a:pathLst>
              <a:path w="79" h="102">
                <a:moveTo>
                  <a:pt x="18" y="102"/>
                </a:moveTo>
                <a:lnTo>
                  <a:pt x="22" y="99"/>
                </a:lnTo>
                <a:lnTo>
                  <a:pt x="42" y="70"/>
                </a:lnTo>
                <a:lnTo>
                  <a:pt x="60" y="41"/>
                </a:lnTo>
                <a:lnTo>
                  <a:pt x="77" y="11"/>
                </a:lnTo>
                <a:lnTo>
                  <a:pt x="79" y="11"/>
                </a:lnTo>
                <a:lnTo>
                  <a:pt x="59" y="0"/>
                </a:lnTo>
                <a:lnTo>
                  <a:pt x="59" y="2"/>
                </a:lnTo>
                <a:lnTo>
                  <a:pt x="40" y="30"/>
                </a:lnTo>
                <a:lnTo>
                  <a:pt x="24" y="59"/>
                </a:lnTo>
                <a:lnTo>
                  <a:pt x="4" y="86"/>
                </a:lnTo>
                <a:lnTo>
                  <a:pt x="0" y="91"/>
                </a:lnTo>
                <a:lnTo>
                  <a:pt x="18" y="102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29520" y="3878280"/>
            <a:ext cx="142920" cy="147600"/>
          </a:xfrm>
          <a:custGeom>
            <a:avLst/>
            <a:gdLst/>
            <a:ahLst/>
            <a:rect l="l" t="t" r="r" b="b"/>
            <a:pathLst>
              <a:path w="90" h="93">
                <a:moveTo>
                  <a:pt x="15" y="93"/>
                </a:moveTo>
                <a:lnTo>
                  <a:pt x="22" y="86"/>
                </a:lnTo>
                <a:lnTo>
                  <a:pt x="48" y="60"/>
                </a:lnTo>
                <a:lnTo>
                  <a:pt x="72" y="34"/>
                </a:lnTo>
                <a:lnTo>
                  <a:pt x="90" y="12"/>
                </a:lnTo>
                <a:lnTo>
                  <a:pt x="73" y="0"/>
                </a:lnTo>
                <a:lnTo>
                  <a:pt x="55" y="19"/>
                </a:lnTo>
                <a:lnTo>
                  <a:pt x="31" y="46"/>
                </a:lnTo>
                <a:lnTo>
                  <a:pt x="6" y="71"/>
                </a:lnTo>
                <a:lnTo>
                  <a:pt x="0" y="78"/>
                </a:lnTo>
                <a:lnTo>
                  <a:pt x="15" y="93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69240" y="4116240"/>
            <a:ext cx="156960" cy="133560"/>
          </a:xfrm>
          <a:custGeom>
            <a:avLst/>
            <a:gdLst/>
            <a:ahLst/>
            <a:rect l="l" t="t" r="r" b="b"/>
            <a:pathLst>
              <a:path w="99" h="84">
                <a:moveTo>
                  <a:pt x="13" y="84"/>
                </a:moveTo>
                <a:lnTo>
                  <a:pt x="44" y="61"/>
                </a:lnTo>
                <a:lnTo>
                  <a:pt x="75" y="38"/>
                </a:lnTo>
                <a:lnTo>
                  <a:pt x="99" y="16"/>
                </a:lnTo>
                <a:lnTo>
                  <a:pt x="84" y="0"/>
                </a:lnTo>
                <a:lnTo>
                  <a:pt x="60" y="20"/>
                </a:lnTo>
                <a:lnTo>
                  <a:pt x="31" y="45"/>
                </a:lnTo>
                <a:lnTo>
                  <a:pt x="0" y="68"/>
                </a:lnTo>
                <a:lnTo>
                  <a:pt x="13" y="84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78720" y="4321080"/>
            <a:ext cx="168120" cy="119160"/>
          </a:xfrm>
          <a:custGeom>
            <a:avLst/>
            <a:gdLst/>
            <a:ahLst/>
            <a:rect l="l" t="t" r="r" b="b"/>
            <a:pathLst>
              <a:path w="106" h="75">
                <a:moveTo>
                  <a:pt x="13" y="75"/>
                </a:moveTo>
                <a:lnTo>
                  <a:pt x="30" y="66"/>
                </a:lnTo>
                <a:lnTo>
                  <a:pt x="99" y="23"/>
                </a:lnTo>
                <a:lnTo>
                  <a:pt x="106" y="18"/>
                </a:lnTo>
                <a:lnTo>
                  <a:pt x="94" y="0"/>
                </a:lnTo>
                <a:lnTo>
                  <a:pt x="86" y="5"/>
                </a:lnTo>
                <a:lnTo>
                  <a:pt x="19" y="47"/>
                </a:lnTo>
                <a:lnTo>
                  <a:pt x="0" y="57"/>
                </a:lnTo>
                <a:lnTo>
                  <a:pt x="13" y="75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72360" y="4491000"/>
            <a:ext cx="172800" cy="106560"/>
          </a:xfrm>
          <a:custGeom>
            <a:avLst/>
            <a:gdLst/>
            <a:ahLst/>
            <a:rect l="l" t="t" r="r" b="b"/>
            <a:pathLst>
              <a:path w="109" h="67">
                <a:moveTo>
                  <a:pt x="9" y="67"/>
                </a:moveTo>
                <a:lnTo>
                  <a:pt x="75" y="36"/>
                </a:lnTo>
                <a:lnTo>
                  <a:pt x="109" y="20"/>
                </a:lnTo>
                <a:lnTo>
                  <a:pt x="98" y="0"/>
                </a:lnTo>
                <a:lnTo>
                  <a:pt x="66" y="18"/>
                </a:lnTo>
                <a:lnTo>
                  <a:pt x="0" y="47"/>
                </a:lnTo>
                <a:lnTo>
                  <a:pt x="9" y="67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49800" y="4630680"/>
            <a:ext cx="177840" cy="92160"/>
          </a:xfrm>
          <a:custGeom>
            <a:avLst/>
            <a:gdLst/>
            <a:ahLst/>
            <a:rect l="l" t="t" r="r" b="b"/>
            <a:pathLst>
              <a:path w="112" h="58">
                <a:moveTo>
                  <a:pt x="7" y="58"/>
                </a:moveTo>
                <a:lnTo>
                  <a:pt x="35" y="49"/>
                </a:lnTo>
                <a:lnTo>
                  <a:pt x="112" y="22"/>
                </a:lnTo>
                <a:lnTo>
                  <a:pt x="102" y="0"/>
                </a:lnTo>
                <a:lnTo>
                  <a:pt x="28" y="29"/>
                </a:lnTo>
                <a:lnTo>
                  <a:pt x="0" y="38"/>
                </a:lnTo>
                <a:lnTo>
                  <a:pt x="7" y="58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6440" y="4741920"/>
            <a:ext cx="179640" cy="76320"/>
          </a:xfrm>
          <a:custGeom>
            <a:avLst/>
            <a:gdLst/>
            <a:ahLst/>
            <a:rect l="l" t="t" r="r" b="b"/>
            <a:pathLst>
              <a:path w="113" h="48">
                <a:moveTo>
                  <a:pt x="7" y="48"/>
                </a:moveTo>
                <a:lnTo>
                  <a:pt x="71" y="32"/>
                </a:lnTo>
                <a:lnTo>
                  <a:pt x="113" y="22"/>
                </a:lnTo>
                <a:lnTo>
                  <a:pt x="106" y="0"/>
                </a:lnTo>
                <a:lnTo>
                  <a:pt x="66" y="13"/>
                </a:lnTo>
                <a:lnTo>
                  <a:pt x="0" y="29"/>
                </a:lnTo>
                <a:lnTo>
                  <a:pt x="7" y="48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78400" y="4824360"/>
            <a:ext cx="179280" cy="65160"/>
          </a:xfrm>
          <a:custGeom>
            <a:avLst/>
            <a:gdLst/>
            <a:ahLst/>
            <a:rect l="l" t="t" r="r" b="b"/>
            <a:pathLst>
              <a:path w="113" h="41">
                <a:moveTo>
                  <a:pt x="3" y="41"/>
                </a:moveTo>
                <a:lnTo>
                  <a:pt x="9" y="41"/>
                </a:lnTo>
                <a:lnTo>
                  <a:pt x="102" y="23"/>
                </a:lnTo>
                <a:lnTo>
                  <a:pt x="113" y="22"/>
                </a:lnTo>
                <a:lnTo>
                  <a:pt x="107" y="0"/>
                </a:lnTo>
                <a:lnTo>
                  <a:pt x="98" y="4"/>
                </a:lnTo>
                <a:lnTo>
                  <a:pt x="5" y="20"/>
                </a:lnTo>
                <a:lnTo>
                  <a:pt x="0" y="20"/>
                </a:lnTo>
                <a:lnTo>
                  <a:pt x="3" y="41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35680" y="4881600"/>
            <a:ext cx="176040" cy="50760"/>
          </a:xfrm>
          <a:custGeom>
            <a:avLst/>
            <a:gdLst/>
            <a:ahLst/>
            <a:rect l="l" t="t" r="r" b="b"/>
            <a:pathLst>
              <a:path w="111" h="32">
                <a:moveTo>
                  <a:pt x="2" y="32"/>
                </a:moveTo>
                <a:lnTo>
                  <a:pt x="29" y="30"/>
                </a:lnTo>
                <a:lnTo>
                  <a:pt x="111" y="21"/>
                </a:lnTo>
                <a:lnTo>
                  <a:pt x="108" y="0"/>
                </a:lnTo>
                <a:lnTo>
                  <a:pt x="27" y="9"/>
                </a:lnTo>
                <a:lnTo>
                  <a:pt x="0" y="12"/>
                </a:lnTo>
                <a:lnTo>
                  <a:pt x="2" y="32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87920" y="4913280"/>
            <a:ext cx="176040" cy="39600"/>
          </a:xfrm>
          <a:custGeom>
            <a:avLst/>
            <a:gdLst/>
            <a:ahLst/>
            <a:rect l="l" t="t" r="r" b="b"/>
            <a:pathLst>
              <a:path w="111" h="25">
                <a:moveTo>
                  <a:pt x="2" y="25"/>
                </a:moveTo>
                <a:lnTo>
                  <a:pt x="49" y="25"/>
                </a:lnTo>
                <a:lnTo>
                  <a:pt x="111" y="21"/>
                </a:lnTo>
                <a:lnTo>
                  <a:pt x="109" y="0"/>
                </a:lnTo>
                <a:lnTo>
                  <a:pt x="47" y="3"/>
                </a:lnTo>
                <a:lnTo>
                  <a:pt x="0" y="3"/>
                </a:lnTo>
                <a:lnTo>
                  <a:pt x="2" y="25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0160" y="4913280"/>
            <a:ext cx="176400" cy="39600"/>
          </a:xfrm>
          <a:custGeom>
            <a:avLst/>
            <a:gdLst/>
            <a:ahLst/>
            <a:rect l="l" t="t" r="r" b="b"/>
            <a:pathLst>
              <a:path w="111" h="25">
                <a:moveTo>
                  <a:pt x="0" y="21"/>
                </a:moveTo>
                <a:lnTo>
                  <a:pt x="64" y="25"/>
                </a:lnTo>
                <a:lnTo>
                  <a:pt x="111" y="25"/>
                </a:lnTo>
                <a:lnTo>
                  <a:pt x="111" y="3"/>
                </a:lnTo>
                <a:lnTo>
                  <a:pt x="64" y="3"/>
                </a:lnTo>
                <a:lnTo>
                  <a:pt x="2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92400" y="4881600"/>
            <a:ext cx="176400" cy="50760"/>
          </a:xfrm>
          <a:custGeom>
            <a:avLst/>
            <a:gdLst/>
            <a:ahLst/>
            <a:rect l="l" t="t" r="r" b="b"/>
            <a:pathLst>
              <a:path w="111" h="32">
                <a:moveTo>
                  <a:pt x="0" y="21"/>
                </a:moveTo>
                <a:lnTo>
                  <a:pt x="82" y="30"/>
                </a:lnTo>
                <a:lnTo>
                  <a:pt x="109" y="32"/>
                </a:lnTo>
                <a:lnTo>
                  <a:pt x="111" y="12"/>
                </a:lnTo>
                <a:lnTo>
                  <a:pt x="85" y="9"/>
                </a:lnTo>
                <a:lnTo>
                  <a:pt x="3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46440" y="4824360"/>
            <a:ext cx="177840" cy="65160"/>
          </a:xfrm>
          <a:custGeom>
            <a:avLst/>
            <a:gdLst/>
            <a:ahLst/>
            <a:rect l="l" t="t" r="r" b="b"/>
            <a:pathLst>
              <a:path w="112" h="41">
                <a:moveTo>
                  <a:pt x="0" y="22"/>
                </a:moveTo>
                <a:lnTo>
                  <a:pt x="13" y="23"/>
                </a:lnTo>
                <a:lnTo>
                  <a:pt x="106" y="41"/>
                </a:lnTo>
                <a:lnTo>
                  <a:pt x="110" y="41"/>
                </a:lnTo>
                <a:lnTo>
                  <a:pt x="112" y="20"/>
                </a:lnTo>
                <a:lnTo>
                  <a:pt x="110" y="20"/>
                </a:lnTo>
                <a:lnTo>
                  <a:pt x="17" y="4"/>
                </a:lnTo>
                <a:lnTo>
                  <a:pt x="6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11640" y="4741920"/>
            <a:ext cx="176040" cy="76320"/>
          </a:xfrm>
          <a:custGeom>
            <a:avLst/>
            <a:gdLst/>
            <a:ahLst/>
            <a:rect l="l" t="t" r="r" b="b"/>
            <a:pathLst>
              <a:path w="111" h="48">
                <a:moveTo>
                  <a:pt x="0" y="20"/>
                </a:moveTo>
                <a:lnTo>
                  <a:pt x="42" y="32"/>
                </a:lnTo>
                <a:lnTo>
                  <a:pt x="105" y="48"/>
                </a:lnTo>
                <a:lnTo>
                  <a:pt x="111" y="29"/>
                </a:lnTo>
                <a:lnTo>
                  <a:pt x="47" y="13"/>
                </a:lnTo>
                <a:lnTo>
                  <a:pt x="5" y="0"/>
                </a:lnTo>
                <a:lnTo>
                  <a:pt x="0" y="20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79720" y="4630680"/>
            <a:ext cx="174600" cy="92160"/>
          </a:xfrm>
          <a:custGeom>
            <a:avLst/>
            <a:gdLst/>
            <a:ahLst/>
            <a:rect l="l" t="t" r="r" b="b"/>
            <a:pathLst>
              <a:path w="110" h="58">
                <a:moveTo>
                  <a:pt x="0" y="20"/>
                </a:moveTo>
                <a:lnTo>
                  <a:pt x="75" y="49"/>
                </a:lnTo>
                <a:lnTo>
                  <a:pt x="103" y="58"/>
                </a:lnTo>
                <a:lnTo>
                  <a:pt x="110" y="38"/>
                </a:lnTo>
                <a:lnTo>
                  <a:pt x="83" y="29"/>
                </a:lnTo>
                <a:lnTo>
                  <a:pt x="8" y="0"/>
                </a:lnTo>
                <a:lnTo>
                  <a:pt x="0" y="20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0760" y="4491000"/>
            <a:ext cx="171360" cy="106560"/>
          </a:xfrm>
          <a:custGeom>
            <a:avLst/>
            <a:gdLst/>
            <a:ahLst/>
            <a:rect l="l" t="t" r="r" b="b"/>
            <a:pathLst>
              <a:path w="108" h="67">
                <a:moveTo>
                  <a:pt x="0" y="20"/>
                </a:moveTo>
                <a:lnTo>
                  <a:pt x="35" y="36"/>
                </a:lnTo>
                <a:lnTo>
                  <a:pt x="99" y="67"/>
                </a:lnTo>
                <a:lnTo>
                  <a:pt x="108" y="47"/>
                </a:lnTo>
                <a:lnTo>
                  <a:pt x="44" y="18"/>
                </a:lnTo>
                <a:lnTo>
                  <a:pt x="10" y="0"/>
                </a:lnTo>
                <a:lnTo>
                  <a:pt x="0" y="20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57280" y="4321080"/>
            <a:ext cx="168480" cy="119160"/>
          </a:xfrm>
          <a:custGeom>
            <a:avLst/>
            <a:gdLst/>
            <a:ahLst/>
            <a:rect l="l" t="t" r="r" b="b"/>
            <a:pathLst>
              <a:path w="106" h="75">
                <a:moveTo>
                  <a:pt x="0" y="18"/>
                </a:moveTo>
                <a:lnTo>
                  <a:pt x="9" y="23"/>
                </a:lnTo>
                <a:lnTo>
                  <a:pt x="78" y="66"/>
                </a:lnTo>
                <a:lnTo>
                  <a:pt x="95" y="75"/>
                </a:lnTo>
                <a:lnTo>
                  <a:pt x="106" y="56"/>
                </a:lnTo>
                <a:lnTo>
                  <a:pt x="89" y="47"/>
                </a:lnTo>
                <a:lnTo>
                  <a:pt x="20" y="5"/>
                </a:lnTo>
                <a:lnTo>
                  <a:pt x="13" y="0"/>
                </a:lnTo>
                <a:lnTo>
                  <a:pt x="0" y="18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77920" y="4116240"/>
            <a:ext cx="157320" cy="133560"/>
          </a:xfrm>
          <a:custGeom>
            <a:avLst/>
            <a:gdLst/>
            <a:ahLst/>
            <a:rect l="l" t="t" r="r" b="b"/>
            <a:pathLst>
              <a:path w="99" h="84">
                <a:moveTo>
                  <a:pt x="0" y="16"/>
                </a:moveTo>
                <a:lnTo>
                  <a:pt x="26" y="38"/>
                </a:lnTo>
                <a:lnTo>
                  <a:pt x="55" y="61"/>
                </a:lnTo>
                <a:lnTo>
                  <a:pt x="86" y="84"/>
                </a:lnTo>
                <a:lnTo>
                  <a:pt x="99" y="66"/>
                </a:lnTo>
                <a:lnTo>
                  <a:pt x="70" y="45"/>
                </a:lnTo>
                <a:lnTo>
                  <a:pt x="39" y="20"/>
                </a:lnTo>
                <a:lnTo>
                  <a:pt x="15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32040" y="3875040"/>
            <a:ext cx="142920" cy="150840"/>
          </a:xfrm>
          <a:custGeom>
            <a:avLst/>
            <a:gdLst/>
            <a:ahLst/>
            <a:rect l="l" t="t" r="r" b="b"/>
            <a:pathLst>
              <a:path w="90" h="95">
                <a:moveTo>
                  <a:pt x="0" y="14"/>
                </a:moveTo>
                <a:lnTo>
                  <a:pt x="18" y="36"/>
                </a:lnTo>
                <a:lnTo>
                  <a:pt x="44" y="62"/>
                </a:lnTo>
                <a:lnTo>
                  <a:pt x="70" y="88"/>
                </a:lnTo>
                <a:lnTo>
                  <a:pt x="75" y="95"/>
                </a:lnTo>
                <a:lnTo>
                  <a:pt x="90" y="79"/>
                </a:lnTo>
                <a:lnTo>
                  <a:pt x="84" y="73"/>
                </a:lnTo>
                <a:lnTo>
                  <a:pt x="59" y="48"/>
                </a:lnTo>
                <a:lnTo>
                  <a:pt x="35" y="21"/>
                </a:lnTo>
                <a:lnTo>
                  <a:pt x="17" y="0"/>
                </a:lnTo>
                <a:lnTo>
                  <a:pt x="0" y="14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31880" y="3598920"/>
            <a:ext cx="122400" cy="162000"/>
          </a:xfrm>
          <a:custGeom>
            <a:avLst/>
            <a:gdLst/>
            <a:ahLst/>
            <a:rect l="l" t="t" r="r" b="b"/>
            <a:pathLst>
              <a:path w="77" h="102">
                <a:moveTo>
                  <a:pt x="0" y="11"/>
                </a:moveTo>
                <a:lnTo>
                  <a:pt x="18" y="41"/>
                </a:lnTo>
                <a:lnTo>
                  <a:pt x="37" y="70"/>
                </a:lnTo>
                <a:lnTo>
                  <a:pt x="57" y="99"/>
                </a:lnTo>
                <a:lnTo>
                  <a:pt x="59" y="102"/>
                </a:lnTo>
                <a:lnTo>
                  <a:pt x="77" y="90"/>
                </a:lnTo>
                <a:lnTo>
                  <a:pt x="75" y="86"/>
                </a:lnTo>
                <a:lnTo>
                  <a:pt x="55" y="59"/>
                </a:lnTo>
                <a:lnTo>
                  <a:pt x="37" y="30"/>
                </a:lnTo>
                <a:lnTo>
                  <a:pt x="20" y="2"/>
                </a:lnTo>
                <a:lnTo>
                  <a:pt x="18" y="0"/>
                </a:lnTo>
                <a:lnTo>
                  <a:pt x="0" y="11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95440" y="3286080"/>
            <a:ext cx="90360" cy="173160"/>
          </a:xfrm>
          <a:custGeom>
            <a:avLst/>
            <a:gdLst/>
            <a:ahLst/>
            <a:rect l="l" t="t" r="r" b="b"/>
            <a:pathLst>
              <a:path w="57" h="109">
                <a:moveTo>
                  <a:pt x="0" y="7"/>
                </a:moveTo>
                <a:lnTo>
                  <a:pt x="6" y="25"/>
                </a:lnTo>
                <a:lnTo>
                  <a:pt x="17" y="57"/>
                </a:lnTo>
                <a:lnTo>
                  <a:pt x="28" y="88"/>
                </a:lnTo>
                <a:lnTo>
                  <a:pt x="37" y="109"/>
                </a:lnTo>
                <a:lnTo>
                  <a:pt x="57" y="100"/>
                </a:lnTo>
                <a:lnTo>
                  <a:pt x="48" y="81"/>
                </a:lnTo>
                <a:lnTo>
                  <a:pt x="37" y="50"/>
                </a:lnTo>
                <a:lnTo>
                  <a:pt x="26" y="20"/>
                </a:lnTo>
                <a:lnTo>
                  <a:pt x="20" y="0"/>
                </a:lnTo>
                <a:lnTo>
                  <a:pt x="0" y="7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1440" y="2955960"/>
            <a:ext cx="49320" cy="173160"/>
          </a:xfrm>
          <a:custGeom>
            <a:avLst/>
            <a:gdLst/>
            <a:ahLst/>
            <a:rect l="l" t="t" r="r" b="b"/>
            <a:pathLst>
              <a:path w="31" h="109">
                <a:moveTo>
                  <a:pt x="0" y="0"/>
                </a:moveTo>
                <a:lnTo>
                  <a:pt x="0" y="7"/>
                </a:lnTo>
                <a:lnTo>
                  <a:pt x="2" y="40"/>
                </a:lnTo>
                <a:lnTo>
                  <a:pt x="5" y="74"/>
                </a:lnTo>
                <a:lnTo>
                  <a:pt x="9" y="106"/>
                </a:lnTo>
                <a:lnTo>
                  <a:pt x="11" y="109"/>
                </a:lnTo>
                <a:lnTo>
                  <a:pt x="31" y="106"/>
                </a:lnTo>
                <a:lnTo>
                  <a:pt x="31" y="102"/>
                </a:lnTo>
                <a:lnTo>
                  <a:pt x="27" y="70"/>
                </a:lnTo>
                <a:lnTo>
                  <a:pt x="23" y="38"/>
                </a:lnTo>
                <a:lnTo>
                  <a:pt x="22" y="7"/>
                </a:lnTo>
                <a:lnTo>
                  <a:pt x="2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6120" y="2614680"/>
            <a:ext cx="61920" cy="171360"/>
          </a:xfrm>
          <a:custGeom>
            <a:avLst/>
            <a:gdLst/>
            <a:ahLst/>
            <a:rect l="l" t="t" r="r" b="b"/>
            <a:pathLst>
              <a:path w="39" h="108">
                <a:moveTo>
                  <a:pt x="19" y="0"/>
                </a:moveTo>
                <a:lnTo>
                  <a:pt x="11" y="25"/>
                </a:lnTo>
                <a:lnTo>
                  <a:pt x="6" y="58"/>
                </a:lnTo>
                <a:lnTo>
                  <a:pt x="2" y="90"/>
                </a:lnTo>
                <a:lnTo>
                  <a:pt x="0" y="108"/>
                </a:lnTo>
                <a:lnTo>
                  <a:pt x="22" y="108"/>
                </a:lnTo>
                <a:lnTo>
                  <a:pt x="24" y="93"/>
                </a:lnTo>
                <a:lnTo>
                  <a:pt x="28" y="61"/>
                </a:lnTo>
                <a:lnTo>
                  <a:pt x="33" y="29"/>
                </a:lnTo>
                <a:lnTo>
                  <a:pt x="39" y="4"/>
                </a:lnTo>
                <a:lnTo>
                  <a:pt x="19" y="0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5680" y="2287440"/>
            <a:ext cx="98280" cy="171720"/>
          </a:xfrm>
          <a:custGeom>
            <a:avLst/>
            <a:gdLst/>
            <a:ahLst/>
            <a:rect l="l" t="t" r="r" b="b"/>
            <a:pathLst>
              <a:path w="62" h="108">
                <a:moveTo>
                  <a:pt x="42" y="0"/>
                </a:moveTo>
                <a:lnTo>
                  <a:pt x="36" y="13"/>
                </a:lnTo>
                <a:lnTo>
                  <a:pt x="22" y="43"/>
                </a:lnTo>
                <a:lnTo>
                  <a:pt x="9" y="74"/>
                </a:lnTo>
                <a:lnTo>
                  <a:pt x="0" y="101"/>
                </a:lnTo>
                <a:lnTo>
                  <a:pt x="20" y="108"/>
                </a:lnTo>
                <a:lnTo>
                  <a:pt x="29" y="81"/>
                </a:lnTo>
                <a:lnTo>
                  <a:pt x="42" y="52"/>
                </a:lnTo>
                <a:lnTo>
                  <a:pt x="56" y="22"/>
                </a:lnTo>
                <a:lnTo>
                  <a:pt x="62" y="11"/>
                </a:lnTo>
                <a:lnTo>
                  <a:pt x="42" y="0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77960" y="1998720"/>
            <a:ext cx="128520" cy="158760"/>
          </a:xfrm>
          <a:custGeom>
            <a:avLst/>
            <a:gdLst/>
            <a:ahLst/>
            <a:rect l="l" t="t" r="r" b="b"/>
            <a:pathLst>
              <a:path w="81" h="100">
                <a:moveTo>
                  <a:pt x="64" y="0"/>
                </a:moveTo>
                <a:lnTo>
                  <a:pt x="48" y="19"/>
                </a:lnTo>
                <a:lnTo>
                  <a:pt x="28" y="48"/>
                </a:lnTo>
                <a:lnTo>
                  <a:pt x="8" y="77"/>
                </a:lnTo>
                <a:lnTo>
                  <a:pt x="0" y="89"/>
                </a:lnTo>
                <a:lnTo>
                  <a:pt x="19" y="100"/>
                </a:lnTo>
                <a:lnTo>
                  <a:pt x="26" y="87"/>
                </a:lnTo>
                <a:lnTo>
                  <a:pt x="46" y="60"/>
                </a:lnTo>
                <a:lnTo>
                  <a:pt x="66" y="32"/>
                </a:lnTo>
                <a:lnTo>
                  <a:pt x="81" y="12"/>
                </a:lnTo>
                <a:lnTo>
                  <a:pt x="64" y="0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93960" y="1744560"/>
            <a:ext cx="147600" cy="146160"/>
          </a:xfrm>
          <a:custGeom>
            <a:avLst/>
            <a:gdLst/>
            <a:ahLst/>
            <a:rect l="l" t="t" r="r" b="b"/>
            <a:pathLst>
              <a:path w="93" h="92">
                <a:moveTo>
                  <a:pt x="76" y="0"/>
                </a:moveTo>
                <a:lnTo>
                  <a:pt x="56" y="18"/>
                </a:lnTo>
                <a:lnTo>
                  <a:pt x="31" y="43"/>
                </a:lnTo>
                <a:lnTo>
                  <a:pt x="5" y="70"/>
                </a:lnTo>
                <a:lnTo>
                  <a:pt x="0" y="77"/>
                </a:lnTo>
                <a:lnTo>
                  <a:pt x="16" y="92"/>
                </a:lnTo>
                <a:lnTo>
                  <a:pt x="20" y="84"/>
                </a:lnTo>
                <a:lnTo>
                  <a:pt x="45" y="59"/>
                </a:lnTo>
                <a:lnTo>
                  <a:pt x="73" y="34"/>
                </a:lnTo>
                <a:lnTo>
                  <a:pt x="93" y="14"/>
                </a:lnTo>
                <a:lnTo>
                  <a:pt x="76" y="0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47760" y="1528920"/>
            <a:ext cx="160560" cy="128520"/>
          </a:xfrm>
          <a:custGeom>
            <a:avLst/>
            <a:gdLst/>
            <a:ahLst/>
            <a:rect l="l" t="t" r="r" b="b"/>
            <a:pathLst>
              <a:path w="101" h="81">
                <a:moveTo>
                  <a:pt x="88" y="0"/>
                </a:moveTo>
                <a:lnTo>
                  <a:pt x="75" y="9"/>
                </a:lnTo>
                <a:lnTo>
                  <a:pt x="11" y="56"/>
                </a:lnTo>
                <a:lnTo>
                  <a:pt x="0" y="65"/>
                </a:lnTo>
                <a:lnTo>
                  <a:pt x="15" y="81"/>
                </a:lnTo>
                <a:lnTo>
                  <a:pt x="26" y="72"/>
                </a:lnTo>
                <a:lnTo>
                  <a:pt x="88" y="27"/>
                </a:lnTo>
                <a:lnTo>
                  <a:pt x="101" y="16"/>
                </a:lnTo>
                <a:lnTo>
                  <a:pt x="88" y="0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35400" y="1346040"/>
            <a:ext cx="16812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5" y="0"/>
                </a:moveTo>
                <a:lnTo>
                  <a:pt x="29" y="36"/>
                </a:lnTo>
                <a:lnTo>
                  <a:pt x="0" y="54"/>
                </a:lnTo>
                <a:lnTo>
                  <a:pt x="11" y="74"/>
                </a:lnTo>
                <a:lnTo>
                  <a:pt x="40" y="56"/>
                </a:lnTo>
                <a:lnTo>
                  <a:pt x="106" y="18"/>
                </a:lnTo>
                <a:lnTo>
                  <a:pt x="95" y="0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39960" y="1198440"/>
            <a:ext cx="173160" cy="100080"/>
          </a:xfrm>
          <a:custGeom>
            <a:avLst/>
            <a:gdLst/>
            <a:ahLst/>
            <a:rect l="l" t="t" r="r" b="b"/>
            <a:pathLst>
              <a:path w="109" h="63">
                <a:moveTo>
                  <a:pt x="100" y="0"/>
                </a:moveTo>
                <a:lnTo>
                  <a:pt x="62" y="16"/>
                </a:lnTo>
                <a:lnTo>
                  <a:pt x="0" y="43"/>
                </a:lnTo>
                <a:lnTo>
                  <a:pt x="11" y="63"/>
                </a:lnTo>
                <a:lnTo>
                  <a:pt x="71" y="36"/>
                </a:lnTo>
                <a:lnTo>
                  <a:pt x="109" y="20"/>
                </a:lnTo>
                <a:lnTo>
                  <a:pt x="100" y="0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60720" y="1079640"/>
            <a:ext cx="177840" cy="88920"/>
          </a:xfrm>
          <a:custGeom>
            <a:avLst/>
            <a:gdLst/>
            <a:ahLst/>
            <a:rect l="l" t="t" r="r" b="b"/>
            <a:pathLst>
              <a:path w="112" h="56">
                <a:moveTo>
                  <a:pt x="105" y="0"/>
                </a:moveTo>
                <a:lnTo>
                  <a:pt x="24" y="27"/>
                </a:lnTo>
                <a:lnTo>
                  <a:pt x="0" y="36"/>
                </a:lnTo>
                <a:lnTo>
                  <a:pt x="10" y="56"/>
                </a:lnTo>
                <a:lnTo>
                  <a:pt x="32" y="47"/>
                </a:lnTo>
                <a:lnTo>
                  <a:pt x="112" y="20"/>
                </a:lnTo>
                <a:lnTo>
                  <a:pt x="105" y="0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94080" y="988920"/>
            <a:ext cx="181080" cy="73080"/>
          </a:xfrm>
          <a:custGeom>
            <a:avLst/>
            <a:gdLst/>
            <a:ahLst/>
            <a:rect l="l" t="t" r="r" b="b"/>
            <a:pathLst>
              <a:path w="114" h="46">
                <a:moveTo>
                  <a:pt x="108" y="0"/>
                </a:moveTo>
                <a:lnTo>
                  <a:pt x="79" y="7"/>
                </a:lnTo>
                <a:lnTo>
                  <a:pt x="0" y="27"/>
                </a:lnTo>
                <a:lnTo>
                  <a:pt x="8" y="46"/>
                </a:lnTo>
                <a:lnTo>
                  <a:pt x="84" y="28"/>
                </a:lnTo>
                <a:lnTo>
                  <a:pt x="114" y="21"/>
                </a:lnTo>
                <a:lnTo>
                  <a:pt x="108" y="0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36800" y="925560"/>
            <a:ext cx="176400" cy="63360"/>
          </a:xfrm>
          <a:custGeom>
            <a:avLst/>
            <a:gdLst/>
            <a:ahLst/>
            <a:rect l="l" t="t" r="r" b="b"/>
            <a:pathLst>
              <a:path w="111" h="40">
                <a:moveTo>
                  <a:pt x="108" y="0"/>
                </a:moveTo>
                <a:lnTo>
                  <a:pt x="49" y="9"/>
                </a:lnTo>
                <a:lnTo>
                  <a:pt x="0" y="18"/>
                </a:lnTo>
                <a:lnTo>
                  <a:pt x="4" y="40"/>
                </a:lnTo>
                <a:lnTo>
                  <a:pt x="53" y="31"/>
                </a:lnTo>
                <a:lnTo>
                  <a:pt x="111" y="22"/>
                </a:lnTo>
                <a:lnTo>
                  <a:pt x="108" y="0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81320" y="888840"/>
            <a:ext cx="177840" cy="47880"/>
          </a:xfrm>
          <a:custGeom>
            <a:avLst/>
            <a:gdLst/>
            <a:ahLst/>
            <a:rect l="l" t="t" r="r" b="b"/>
            <a:pathLst>
              <a:path w="112" h="30">
                <a:moveTo>
                  <a:pt x="110" y="0"/>
                </a:moveTo>
                <a:lnTo>
                  <a:pt x="26" y="7"/>
                </a:lnTo>
                <a:lnTo>
                  <a:pt x="0" y="9"/>
                </a:lnTo>
                <a:lnTo>
                  <a:pt x="4" y="30"/>
                </a:lnTo>
                <a:lnTo>
                  <a:pt x="29" y="29"/>
                </a:lnTo>
                <a:lnTo>
                  <a:pt x="112" y="21"/>
                </a:lnTo>
                <a:lnTo>
                  <a:pt x="110" y="0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29080" y="874800"/>
            <a:ext cx="174600" cy="39600"/>
          </a:xfrm>
          <a:custGeom>
            <a:avLst/>
            <a:gdLst/>
            <a:ahLst/>
            <a:rect l="l" t="t" r="r" b="b"/>
            <a:pathLst>
              <a:path w="110" h="25">
                <a:moveTo>
                  <a:pt x="110" y="0"/>
                </a:moveTo>
                <a:lnTo>
                  <a:pt x="8" y="2"/>
                </a:lnTo>
                <a:lnTo>
                  <a:pt x="0" y="4"/>
                </a:lnTo>
                <a:lnTo>
                  <a:pt x="2" y="25"/>
                </a:lnTo>
                <a:lnTo>
                  <a:pt x="8" y="23"/>
                </a:lnTo>
                <a:lnTo>
                  <a:pt x="110" y="22"/>
                </a:lnTo>
                <a:lnTo>
                  <a:pt x="110" y="0"/>
                </a:lnTo>
                <a:close/>
              </a:path>
            </a:pathLst>
          </a:custGeom>
          <a:solidFill>
            <a:srgbClr val="00c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86400" y="831960"/>
            <a:ext cx="4252680" cy="2519280"/>
          </a:xfrm>
          <a:custGeom>
            <a:avLst/>
            <a:gdLst/>
            <a:ahLst/>
            <a:rect l="l" t="t" r="r" b="b"/>
            <a:pathLst>
              <a:path w="2679" h="1587">
                <a:moveTo>
                  <a:pt x="2679" y="1587"/>
                </a:moveTo>
                <a:lnTo>
                  <a:pt x="2679" y="1546"/>
                </a:lnTo>
                <a:lnTo>
                  <a:pt x="2677" y="1505"/>
                </a:lnTo>
                <a:lnTo>
                  <a:pt x="2672" y="1465"/>
                </a:lnTo>
                <a:lnTo>
                  <a:pt x="2666" y="1424"/>
                </a:lnTo>
                <a:lnTo>
                  <a:pt x="2659" y="1385"/>
                </a:lnTo>
                <a:lnTo>
                  <a:pt x="2648" y="1345"/>
                </a:lnTo>
                <a:lnTo>
                  <a:pt x="2637" y="1306"/>
                </a:lnTo>
                <a:lnTo>
                  <a:pt x="2624" y="1267"/>
                </a:lnTo>
                <a:lnTo>
                  <a:pt x="2611" y="1227"/>
                </a:lnTo>
                <a:lnTo>
                  <a:pt x="2595" y="1190"/>
                </a:lnTo>
                <a:lnTo>
                  <a:pt x="2577" y="1152"/>
                </a:lnTo>
                <a:lnTo>
                  <a:pt x="2558" y="1114"/>
                </a:lnTo>
                <a:lnTo>
                  <a:pt x="2538" y="1077"/>
                </a:lnTo>
                <a:lnTo>
                  <a:pt x="2516" y="1041"/>
                </a:lnTo>
                <a:lnTo>
                  <a:pt x="2493" y="1003"/>
                </a:lnTo>
                <a:lnTo>
                  <a:pt x="2467" y="967"/>
                </a:lnTo>
                <a:lnTo>
                  <a:pt x="2441" y="933"/>
                </a:lnTo>
                <a:lnTo>
                  <a:pt x="2414" y="898"/>
                </a:lnTo>
                <a:lnTo>
                  <a:pt x="2385" y="864"/>
                </a:lnTo>
                <a:lnTo>
                  <a:pt x="2354" y="830"/>
                </a:lnTo>
                <a:lnTo>
                  <a:pt x="2323" y="795"/>
                </a:lnTo>
                <a:lnTo>
                  <a:pt x="2290" y="763"/>
                </a:lnTo>
                <a:lnTo>
                  <a:pt x="2255" y="731"/>
                </a:lnTo>
                <a:lnTo>
                  <a:pt x="2219" y="699"/>
                </a:lnTo>
                <a:lnTo>
                  <a:pt x="2182" y="667"/>
                </a:lnTo>
                <a:lnTo>
                  <a:pt x="2144" y="636"/>
                </a:lnTo>
                <a:lnTo>
                  <a:pt x="2105" y="606"/>
                </a:lnTo>
                <a:lnTo>
                  <a:pt x="2065" y="577"/>
                </a:lnTo>
                <a:lnTo>
                  <a:pt x="2023" y="546"/>
                </a:lnTo>
                <a:lnTo>
                  <a:pt x="1979" y="520"/>
                </a:lnTo>
                <a:lnTo>
                  <a:pt x="1936" y="491"/>
                </a:lnTo>
                <a:lnTo>
                  <a:pt x="1892" y="464"/>
                </a:lnTo>
                <a:lnTo>
                  <a:pt x="1844" y="437"/>
                </a:lnTo>
                <a:lnTo>
                  <a:pt x="1799" y="410"/>
                </a:lnTo>
                <a:lnTo>
                  <a:pt x="1749" y="385"/>
                </a:lnTo>
                <a:lnTo>
                  <a:pt x="1700" y="362"/>
                </a:lnTo>
                <a:lnTo>
                  <a:pt x="1651" y="337"/>
                </a:lnTo>
                <a:lnTo>
                  <a:pt x="1600" y="314"/>
                </a:lnTo>
                <a:lnTo>
                  <a:pt x="1547" y="292"/>
                </a:lnTo>
                <a:lnTo>
                  <a:pt x="1494" y="271"/>
                </a:lnTo>
                <a:lnTo>
                  <a:pt x="1441" y="249"/>
                </a:lnTo>
                <a:lnTo>
                  <a:pt x="1386" y="229"/>
                </a:lnTo>
                <a:lnTo>
                  <a:pt x="1329" y="210"/>
                </a:lnTo>
                <a:lnTo>
                  <a:pt x="1275" y="190"/>
                </a:lnTo>
                <a:lnTo>
                  <a:pt x="1216" y="172"/>
                </a:lnTo>
                <a:lnTo>
                  <a:pt x="1158" y="156"/>
                </a:lnTo>
                <a:lnTo>
                  <a:pt x="1099" y="140"/>
                </a:lnTo>
                <a:lnTo>
                  <a:pt x="1039" y="124"/>
                </a:lnTo>
                <a:lnTo>
                  <a:pt x="979" y="109"/>
                </a:lnTo>
                <a:lnTo>
                  <a:pt x="919" y="95"/>
                </a:lnTo>
                <a:lnTo>
                  <a:pt x="856" y="83"/>
                </a:lnTo>
                <a:lnTo>
                  <a:pt x="794" y="70"/>
                </a:lnTo>
                <a:lnTo>
                  <a:pt x="730" y="59"/>
                </a:lnTo>
                <a:lnTo>
                  <a:pt x="667" y="49"/>
                </a:lnTo>
                <a:lnTo>
                  <a:pt x="603" y="40"/>
                </a:lnTo>
                <a:lnTo>
                  <a:pt x="539" y="31"/>
                </a:lnTo>
                <a:lnTo>
                  <a:pt x="473" y="23"/>
                </a:lnTo>
                <a:lnTo>
                  <a:pt x="407" y="18"/>
                </a:lnTo>
                <a:lnTo>
                  <a:pt x="340" y="13"/>
                </a:lnTo>
                <a:lnTo>
                  <a:pt x="272" y="7"/>
                </a:lnTo>
                <a:lnTo>
                  <a:pt x="205" y="4"/>
                </a:lnTo>
                <a:lnTo>
                  <a:pt x="137" y="2"/>
                </a:lnTo>
                <a:lnTo>
                  <a:pt x="69" y="0"/>
                </a:lnTo>
                <a:lnTo>
                  <a:pt x="0" y="0"/>
                </a:lnTo>
                <a:lnTo>
                  <a:pt x="0" y="22"/>
                </a:lnTo>
                <a:lnTo>
                  <a:pt x="69" y="22"/>
                </a:lnTo>
                <a:lnTo>
                  <a:pt x="137" y="23"/>
                </a:lnTo>
                <a:lnTo>
                  <a:pt x="205" y="25"/>
                </a:lnTo>
                <a:lnTo>
                  <a:pt x="272" y="29"/>
                </a:lnTo>
                <a:lnTo>
                  <a:pt x="338" y="34"/>
                </a:lnTo>
                <a:lnTo>
                  <a:pt x="405" y="40"/>
                </a:lnTo>
                <a:lnTo>
                  <a:pt x="469" y="45"/>
                </a:lnTo>
                <a:lnTo>
                  <a:pt x="535" y="52"/>
                </a:lnTo>
                <a:lnTo>
                  <a:pt x="601" y="61"/>
                </a:lnTo>
                <a:lnTo>
                  <a:pt x="665" y="70"/>
                </a:lnTo>
                <a:lnTo>
                  <a:pt x="727" y="81"/>
                </a:lnTo>
                <a:lnTo>
                  <a:pt x="791" y="92"/>
                </a:lnTo>
                <a:lnTo>
                  <a:pt x="853" y="104"/>
                </a:lnTo>
                <a:lnTo>
                  <a:pt x="913" y="117"/>
                </a:lnTo>
                <a:lnTo>
                  <a:pt x="975" y="131"/>
                </a:lnTo>
                <a:lnTo>
                  <a:pt x="1034" y="145"/>
                </a:lnTo>
                <a:lnTo>
                  <a:pt x="1094" y="160"/>
                </a:lnTo>
                <a:lnTo>
                  <a:pt x="1152" y="176"/>
                </a:lnTo>
                <a:lnTo>
                  <a:pt x="1211" y="194"/>
                </a:lnTo>
                <a:lnTo>
                  <a:pt x="1267" y="212"/>
                </a:lnTo>
                <a:lnTo>
                  <a:pt x="1324" y="229"/>
                </a:lnTo>
                <a:lnTo>
                  <a:pt x="1379" y="249"/>
                </a:lnTo>
                <a:lnTo>
                  <a:pt x="1433" y="269"/>
                </a:lnTo>
                <a:lnTo>
                  <a:pt x="1486" y="290"/>
                </a:lnTo>
                <a:lnTo>
                  <a:pt x="1539" y="312"/>
                </a:lnTo>
                <a:lnTo>
                  <a:pt x="1591" y="333"/>
                </a:lnTo>
                <a:lnTo>
                  <a:pt x="1642" y="357"/>
                </a:lnTo>
                <a:lnTo>
                  <a:pt x="1691" y="380"/>
                </a:lnTo>
                <a:lnTo>
                  <a:pt x="1740" y="405"/>
                </a:lnTo>
                <a:lnTo>
                  <a:pt x="1788" y="430"/>
                </a:lnTo>
                <a:lnTo>
                  <a:pt x="1835" y="455"/>
                </a:lnTo>
                <a:lnTo>
                  <a:pt x="1881" y="482"/>
                </a:lnTo>
                <a:lnTo>
                  <a:pt x="1925" y="509"/>
                </a:lnTo>
                <a:lnTo>
                  <a:pt x="1969" y="538"/>
                </a:lnTo>
                <a:lnTo>
                  <a:pt x="2011" y="564"/>
                </a:lnTo>
                <a:lnTo>
                  <a:pt x="2053" y="593"/>
                </a:lnTo>
                <a:lnTo>
                  <a:pt x="2091" y="624"/>
                </a:lnTo>
                <a:lnTo>
                  <a:pt x="2131" y="652"/>
                </a:lnTo>
                <a:lnTo>
                  <a:pt x="2168" y="683"/>
                </a:lnTo>
                <a:lnTo>
                  <a:pt x="2204" y="715"/>
                </a:lnTo>
                <a:lnTo>
                  <a:pt x="2241" y="745"/>
                </a:lnTo>
                <a:lnTo>
                  <a:pt x="2273" y="778"/>
                </a:lnTo>
                <a:lnTo>
                  <a:pt x="2306" y="810"/>
                </a:lnTo>
                <a:lnTo>
                  <a:pt x="2337" y="844"/>
                </a:lnTo>
                <a:lnTo>
                  <a:pt x="2368" y="878"/>
                </a:lnTo>
                <a:lnTo>
                  <a:pt x="2396" y="912"/>
                </a:lnTo>
                <a:lnTo>
                  <a:pt x="2423" y="946"/>
                </a:lnTo>
                <a:lnTo>
                  <a:pt x="2449" y="980"/>
                </a:lnTo>
                <a:lnTo>
                  <a:pt x="2474" y="1016"/>
                </a:lnTo>
                <a:lnTo>
                  <a:pt x="2496" y="1052"/>
                </a:lnTo>
                <a:lnTo>
                  <a:pt x="2518" y="1087"/>
                </a:lnTo>
                <a:lnTo>
                  <a:pt x="2538" y="1123"/>
                </a:lnTo>
                <a:lnTo>
                  <a:pt x="2557" y="1161"/>
                </a:lnTo>
                <a:lnTo>
                  <a:pt x="2575" y="1199"/>
                </a:lnTo>
                <a:lnTo>
                  <a:pt x="2589" y="1236"/>
                </a:lnTo>
                <a:lnTo>
                  <a:pt x="2604" y="1274"/>
                </a:lnTo>
                <a:lnTo>
                  <a:pt x="2617" y="1311"/>
                </a:lnTo>
                <a:lnTo>
                  <a:pt x="2628" y="1351"/>
                </a:lnTo>
                <a:lnTo>
                  <a:pt x="2637" y="1388"/>
                </a:lnTo>
                <a:lnTo>
                  <a:pt x="2644" y="1428"/>
                </a:lnTo>
                <a:lnTo>
                  <a:pt x="2650" y="1467"/>
                </a:lnTo>
                <a:lnTo>
                  <a:pt x="2655" y="1507"/>
                </a:lnTo>
                <a:lnTo>
                  <a:pt x="2657" y="1548"/>
                </a:lnTo>
                <a:lnTo>
                  <a:pt x="2657" y="1587"/>
                </a:lnTo>
                <a:lnTo>
                  <a:pt x="2679" y="1587"/>
                </a:lnTo>
                <a:close/>
              </a:path>
            </a:pathLst>
          </a:custGeom>
          <a:solidFill>
            <a:srgbClr val="003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86400" y="3351240"/>
            <a:ext cx="4252680" cy="2519280"/>
          </a:xfrm>
          <a:custGeom>
            <a:avLst/>
            <a:gdLst/>
            <a:ahLst/>
            <a:rect l="l" t="t" r="r" b="b"/>
            <a:pathLst>
              <a:path w="2679" h="1587">
                <a:moveTo>
                  <a:pt x="0" y="1587"/>
                </a:moveTo>
                <a:lnTo>
                  <a:pt x="69" y="1587"/>
                </a:lnTo>
                <a:lnTo>
                  <a:pt x="137" y="1585"/>
                </a:lnTo>
                <a:lnTo>
                  <a:pt x="205" y="1584"/>
                </a:lnTo>
                <a:lnTo>
                  <a:pt x="272" y="1580"/>
                </a:lnTo>
                <a:lnTo>
                  <a:pt x="340" y="1575"/>
                </a:lnTo>
                <a:lnTo>
                  <a:pt x="407" y="1569"/>
                </a:lnTo>
                <a:lnTo>
                  <a:pt x="473" y="1564"/>
                </a:lnTo>
                <a:lnTo>
                  <a:pt x="539" y="1557"/>
                </a:lnTo>
                <a:lnTo>
                  <a:pt x="603" y="1548"/>
                </a:lnTo>
                <a:lnTo>
                  <a:pt x="667" y="1539"/>
                </a:lnTo>
                <a:lnTo>
                  <a:pt x="730" y="1528"/>
                </a:lnTo>
                <a:lnTo>
                  <a:pt x="794" y="1517"/>
                </a:lnTo>
                <a:lnTo>
                  <a:pt x="856" y="1505"/>
                </a:lnTo>
                <a:lnTo>
                  <a:pt x="919" y="1492"/>
                </a:lnTo>
                <a:lnTo>
                  <a:pt x="979" y="1478"/>
                </a:lnTo>
                <a:lnTo>
                  <a:pt x="1039" y="1464"/>
                </a:lnTo>
                <a:lnTo>
                  <a:pt x="1099" y="1448"/>
                </a:lnTo>
                <a:lnTo>
                  <a:pt x="1158" y="1431"/>
                </a:lnTo>
                <a:lnTo>
                  <a:pt x="1216" y="1415"/>
                </a:lnTo>
                <a:lnTo>
                  <a:pt x="1275" y="1397"/>
                </a:lnTo>
                <a:lnTo>
                  <a:pt x="1329" y="1378"/>
                </a:lnTo>
                <a:lnTo>
                  <a:pt x="1386" y="1358"/>
                </a:lnTo>
                <a:lnTo>
                  <a:pt x="1441" y="1338"/>
                </a:lnTo>
                <a:lnTo>
                  <a:pt x="1494" y="1317"/>
                </a:lnTo>
                <a:lnTo>
                  <a:pt x="1547" y="1295"/>
                </a:lnTo>
                <a:lnTo>
                  <a:pt x="1600" y="1274"/>
                </a:lnTo>
                <a:lnTo>
                  <a:pt x="1651" y="1250"/>
                </a:lnTo>
                <a:lnTo>
                  <a:pt x="1700" y="1225"/>
                </a:lnTo>
                <a:lnTo>
                  <a:pt x="1749" y="1202"/>
                </a:lnTo>
                <a:lnTo>
                  <a:pt x="1799" y="1177"/>
                </a:lnTo>
                <a:lnTo>
                  <a:pt x="1844" y="1150"/>
                </a:lnTo>
                <a:lnTo>
                  <a:pt x="1892" y="1123"/>
                </a:lnTo>
                <a:lnTo>
                  <a:pt x="1936" y="1096"/>
                </a:lnTo>
                <a:lnTo>
                  <a:pt x="1979" y="1068"/>
                </a:lnTo>
                <a:lnTo>
                  <a:pt x="2023" y="1041"/>
                </a:lnTo>
                <a:lnTo>
                  <a:pt x="2065" y="1010"/>
                </a:lnTo>
                <a:lnTo>
                  <a:pt x="2105" y="982"/>
                </a:lnTo>
                <a:lnTo>
                  <a:pt x="2144" y="951"/>
                </a:lnTo>
                <a:lnTo>
                  <a:pt x="2182" y="921"/>
                </a:lnTo>
                <a:lnTo>
                  <a:pt x="2219" y="889"/>
                </a:lnTo>
                <a:lnTo>
                  <a:pt x="2255" y="856"/>
                </a:lnTo>
                <a:lnTo>
                  <a:pt x="2290" y="824"/>
                </a:lnTo>
                <a:lnTo>
                  <a:pt x="2323" y="792"/>
                </a:lnTo>
                <a:lnTo>
                  <a:pt x="2354" y="758"/>
                </a:lnTo>
                <a:lnTo>
                  <a:pt x="2385" y="724"/>
                </a:lnTo>
                <a:lnTo>
                  <a:pt x="2414" y="690"/>
                </a:lnTo>
                <a:lnTo>
                  <a:pt x="2441" y="654"/>
                </a:lnTo>
                <a:lnTo>
                  <a:pt x="2467" y="620"/>
                </a:lnTo>
                <a:lnTo>
                  <a:pt x="2493" y="584"/>
                </a:lnTo>
                <a:lnTo>
                  <a:pt x="2516" y="547"/>
                </a:lnTo>
                <a:lnTo>
                  <a:pt x="2538" y="511"/>
                </a:lnTo>
                <a:lnTo>
                  <a:pt x="2558" y="473"/>
                </a:lnTo>
                <a:lnTo>
                  <a:pt x="2577" y="435"/>
                </a:lnTo>
                <a:lnTo>
                  <a:pt x="2595" y="398"/>
                </a:lnTo>
                <a:lnTo>
                  <a:pt x="2611" y="360"/>
                </a:lnTo>
                <a:lnTo>
                  <a:pt x="2624" y="321"/>
                </a:lnTo>
                <a:lnTo>
                  <a:pt x="2637" y="281"/>
                </a:lnTo>
                <a:lnTo>
                  <a:pt x="2648" y="242"/>
                </a:lnTo>
                <a:lnTo>
                  <a:pt x="2659" y="203"/>
                </a:lnTo>
                <a:lnTo>
                  <a:pt x="2666" y="163"/>
                </a:lnTo>
                <a:lnTo>
                  <a:pt x="2672" y="122"/>
                </a:lnTo>
                <a:lnTo>
                  <a:pt x="2677" y="83"/>
                </a:lnTo>
                <a:lnTo>
                  <a:pt x="2679" y="41"/>
                </a:lnTo>
                <a:lnTo>
                  <a:pt x="2679" y="0"/>
                </a:lnTo>
                <a:lnTo>
                  <a:pt x="2657" y="0"/>
                </a:lnTo>
                <a:lnTo>
                  <a:pt x="2657" y="40"/>
                </a:lnTo>
                <a:lnTo>
                  <a:pt x="2655" y="81"/>
                </a:lnTo>
                <a:lnTo>
                  <a:pt x="2650" y="120"/>
                </a:lnTo>
                <a:lnTo>
                  <a:pt x="2644" y="160"/>
                </a:lnTo>
                <a:lnTo>
                  <a:pt x="2637" y="199"/>
                </a:lnTo>
                <a:lnTo>
                  <a:pt x="2628" y="237"/>
                </a:lnTo>
                <a:lnTo>
                  <a:pt x="2617" y="276"/>
                </a:lnTo>
                <a:lnTo>
                  <a:pt x="2604" y="314"/>
                </a:lnTo>
                <a:lnTo>
                  <a:pt x="2589" y="351"/>
                </a:lnTo>
                <a:lnTo>
                  <a:pt x="2575" y="389"/>
                </a:lnTo>
                <a:lnTo>
                  <a:pt x="2557" y="427"/>
                </a:lnTo>
                <a:lnTo>
                  <a:pt x="2538" y="464"/>
                </a:lnTo>
                <a:lnTo>
                  <a:pt x="2518" y="500"/>
                </a:lnTo>
                <a:lnTo>
                  <a:pt x="2496" y="536"/>
                </a:lnTo>
                <a:lnTo>
                  <a:pt x="2474" y="572"/>
                </a:lnTo>
                <a:lnTo>
                  <a:pt x="2449" y="607"/>
                </a:lnTo>
                <a:lnTo>
                  <a:pt x="2423" y="641"/>
                </a:lnTo>
                <a:lnTo>
                  <a:pt x="2396" y="676"/>
                </a:lnTo>
                <a:lnTo>
                  <a:pt x="2368" y="710"/>
                </a:lnTo>
                <a:lnTo>
                  <a:pt x="2337" y="744"/>
                </a:lnTo>
                <a:lnTo>
                  <a:pt x="2306" y="778"/>
                </a:lnTo>
                <a:lnTo>
                  <a:pt x="2273" y="810"/>
                </a:lnTo>
                <a:lnTo>
                  <a:pt x="2241" y="842"/>
                </a:lnTo>
                <a:lnTo>
                  <a:pt x="2204" y="873"/>
                </a:lnTo>
                <a:lnTo>
                  <a:pt x="2168" y="905"/>
                </a:lnTo>
                <a:lnTo>
                  <a:pt x="2131" y="935"/>
                </a:lnTo>
                <a:lnTo>
                  <a:pt x="2091" y="964"/>
                </a:lnTo>
                <a:lnTo>
                  <a:pt x="2053" y="994"/>
                </a:lnTo>
                <a:lnTo>
                  <a:pt x="2011" y="1023"/>
                </a:lnTo>
                <a:lnTo>
                  <a:pt x="1969" y="1052"/>
                </a:lnTo>
                <a:lnTo>
                  <a:pt x="1925" y="1079"/>
                </a:lnTo>
                <a:lnTo>
                  <a:pt x="1881" y="1105"/>
                </a:lnTo>
                <a:lnTo>
                  <a:pt x="1835" y="1132"/>
                </a:lnTo>
                <a:lnTo>
                  <a:pt x="1788" y="1157"/>
                </a:lnTo>
                <a:lnTo>
                  <a:pt x="1740" y="1182"/>
                </a:lnTo>
                <a:lnTo>
                  <a:pt x="1691" y="1208"/>
                </a:lnTo>
                <a:lnTo>
                  <a:pt x="1642" y="1231"/>
                </a:lnTo>
                <a:lnTo>
                  <a:pt x="1591" y="1254"/>
                </a:lnTo>
                <a:lnTo>
                  <a:pt x="1539" y="1276"/>
                </a:lnTo>
                <a:lnTo>
                  <a:pt x="1486" y="1297"/>
                </a:lnTo>
                <a:lnTo>
                  <a:pt x="1433" y="1319"/>
                </a:lnTo>
                <a:lnTo>
                  <a:pt x="1379" y="1338"/>
                </a:lnTo>
                <a:lnTo>
                  <a:pt x="1324" y="1358"/>
                </a:lnTo>
                <a:lnTo>
                  <a:pt x="1267" y="1376"/>
                </a:lnTo>
                <a:lnTo>
                  <a:pt x="1211" y="1394"/>
                </a:lnTo>
                <a:lnTo>
                  <a:pt x="1152" y="1412"/>
                </a:lnTo>
                <a:lnTo>
                  <a:pt x="1094" y="1428"/>
                </a:lnTo>
                <a:lnTo>
                  <a:pt x="1034" y="1442"/>
                </a:lnTo>
                <a:lnTo>
                  <a:pt x="975" y="1456"/>
                </a:lnTo>
                <a:lnTo>
                  <a:pt x="913" y="1471"/>
                </a:lnTo>
                <a:lnTo>
                  <a:pt x="853" y="1483"/>
                </a:lnTo>
                <a:lnTo>
                  <a:pt x="791" y="1496"/>
                </a:lnTo>
                <a:lnTo>
                  <a:pt x="727" y="1507"/>
                </a:lnTo>
                <a:lnTo>
                  <a:pt x="665" y="1517"/>
                </a:lnTo>
                <a:lnTo>
                  <a:pt x="601" y="1526"/>
                </a:lnTo>
                <a:lnTo>
                  <a:pt x="535" y="1535"/>
                </a:lnTo>
                <a:lnTo>
                  <a:pt x="469" y="1542"/>
                </a:lnTo>
                <a:lnTo>
                  <a:pt x="405" y="1548"/>
                </a:lnTo>
                <a:lnTo>
                  <a:pt x="338" y="1553"/>
                </a:lnTo>
                <a:lnTo>
                  <a:pt x="272" y="1559"/>
                </a:lnTo>
                <a:lnTo>
                  <a:pt x="205" y="1562"/>
                </a:lnTo>
                <a:lnTo>
                  <a:pt x="137" y="1564"/>
                </a:lnTo>
                <a:lnTo>
                  <a:pt x="69" y="1566"/>
                </a:lnTo>
                <a:lnTo>
                  <a:pt x="0" y="1566"/>
                </a:lnTo>
                <a:lnTo>
                  <a:pt x="0" y="1587"/>
                </a:lnTo>
                <a:close/>
              </a:path>
            </a:pathLst>
          </a:custGeom>
          <a:solidFill>
            <a:srgbClr val="003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3360" y="3351240"/>
            <a:ext cx="4253040" cy="2519280"/>
          </a:xfrm>
          <a:custGeom>
            <a:avLst/>
            <a:gdLst/>
            <a:ahLst/>
            <a:rect l="l" t="t" r="r" b="b"/>
            <a:pathLst>
              <a:path w="2679" h="1587">
                <a:moveTo>
                  <a:pt x="0" y="0"/>
                </a:moveTo>
                <a:lnTo>
                  <a:pt x="0" y="41"/>
                </a:lnTo>
                <a:lnTo>
                  <a:pt x="2" y="83"/>
                </a:lnTo>
                <a:lnTo>
                  <a:pt x="7" y="122"/>
                </a:lnTo>
                <a:lnTo>
                  <a:pt x="13" y="163"/>
                </a:lnTo>
                <a:lnTo>
                  <a:pt x="20" y="203"/>
                </a:lnTo>
                <a:lnTo>
                  <a:pt x="31" y="242"/>
                </a:lnTo>
                <a:lnTo>
                  <a:pt x="42" y="281"/>
                </a:lnTo>
                <a:lnTo>
                  <a:pt x="55" y="321"/>
                </a:lnTo>
                <a:lnTo>
                  <a:pt x="68" y="360"/>
                </a:lnTo>
                <a:lnTo>
                  <a:pt x="84" y="398"/>
                </a:lnTo>
                <a:lnTo>
                  <a:pt x="102" y="435"/>
                </a:lnTo>
                <a:lnTo>
                  <a:pt x="121" y="473"/>
                </a:lnTo>
                <a:lnTo>
                  <a:pt x="141" y="511"/>
                </a:lnTo>
                <a:lnTo>
                  <a:pt x="163" y="547"/>
                </a:lnTo>
                <a:lnTo>
                  <a:pt x="186" y="584"/>
                </a:lnTo>
                <a:lnTo>
                  <a:pt x="212" y="620"/>
                </a:lnTo>
                <a:lnTo>
                  <a:pt x="238" y="654"/>
                </a:lnTo>
                <a:lnTo>
                  <a:pt x="265" y="690"/>
                </a:lnTo>
                <a:lnTo>
                  <a:pt x="294" y="724"/>
                </a:lnTo>
                <a:lnTo>
                  <a:pt x="325" y="758"/>
                </a:lnTo>
                <a:lnTo>
                  <a:pt x="356" y="792"/>
                </a:lnTo>
                <a:lnTo>
                  <a:pt x="389" y="824"/>
                </a:lnTo>
                <a:lnTo>
                  <a:pt x="424" y="856"/>
                </a:lnTo>
                <a:lnTo>
                  <a:pt x="460" y="889"/>
                </a:lnTo>
                <a:lnTo>
                  <a:pt x="497" y="921"/>
                </a:lnTo>
                <a:lnTo>
                  <a:pt x="535" y="951"/>
                </a:lnTo>
                <a:lnTo>
                  <a:pt x="574" y="982"/>
                </a:lnTo>
                <a:lnTo>
                  <a:pt x="614" y="1010"/>
                </a:lnTo>
                <a:lnTo>
                  <a:pt x="656" y="1041"/>
                </a:lnTo>
                <a:lnTo>
                  <a:pt x="700" y="1068"/>
                </a:lnTo>
                <a:lnTo>
                  <a:pt x="743" y="1096"/>
                </a:lnTo>
                <a:lnTo>
                  <a:pt x="787" y="1123"/>
                </a:lnTo>
                <a:lnTo>
                  <a:pt x="835" y="1150"/>
                </a:lnTo>
                <a:lnTo>
                  <a:pt x="880" y="1177"/>
                </a:lnTo>
                <a:lnTo>
                  <a:pt x="930" y="1202"/>
                </a:lnTo>
                <a:lnTo>
                  <a:pt x="979" y="1225"/>
                </a:lnTo>
                <a:lnTo>
                  <a:pt x="1028" y="1250"/>
                </a:lnTo>
                <a:lnTo>
                  <a:pt x="1079" y="1274"/>
                </a:lnTo>
                <a:lnTo>
                  <a:pt x="1132" y="1295"/>
                </a:lnTo>
                <a:lnTo>
                  <a:pt x="1185" y="1317"/>
                </a:lnTo>
                <a:lnTo>
                  <a:pt x="1238" y="1338"/>
                </a:lnTo>
                <a:lnTo>
                  <a:pt x="1293" y="1358"/>
                </a:lnTo>
                <a:lnTo>
                  <a:pt x="1350" y="1378"/>
                </a:lnTo>
                <a:lnTo>
                  <a:pt x="1404" y="1397"/>
                </a:lnTo>
                <a:lnTo>
                  <a:pt x="1463" y="1415"/>
                </a:lnTo>
                <a:lnTo>
                  <a:pt x="1521" y="1431"/>
                </a:lnTo>
                <a:lnTo>
                  <a:pt x="1580" y="1448"/>
                </a:lnTo>
                <a:lnTo>
                  <a:pt x="1640" y="1464"/>
                </a:lnTo>
                <a:lnTo>
                  <a:pt x="1700" y="1478"/>
                </a:lnTo>
                <a:lnTo>
                  <a:pt x="1760" y="1492"/>
                </a:lnTo>
                <a:lnTo>
                  <a:pt x="1823" y="1505"/>
                </a:lnTo>
                <a:lnTo>
                  <a:pt x="1885" y="1517"/>
                </a:lnTo>
                <a:lnTo>
                  <a:pt x="1949" y="1528"/>
                </a:lnTo>
                <a:lnTo>
                  <a:pt x="2012" y="1539"/>
                </a:lnTo>
                <a:lnTo>
                  <a:pt x="2076" y="1548"/>
                </a:lnTo>
                <a:lnTo>
                  <a:pt x="2140" y="1557"/>
                </a:lnTo>
                <a:lnTo>
                  <a:pt x="2206" y="1564"/>
                </a:lnTo>
                <a:lnTo>
                  <a:pt x="2272" y="1569"/>
                </a:lnTo>
                <a:lnTo>
                  <a:pt x="2339" y="1575"/>
                </a:lnTo>
                <a:lnTo>
                  <a:pt x="2407" y="1580"/>
                </a:lnTo>
                <a:lnTo>
                  <a:pt x="2474" y="1584"/>
                </a:lnTo>
                <a:lnTo>
                  <a:pt x="2542" y="1585"/>
                </a:lnTo>
                <a:lnTo>
                  <a:pt x="2610" y="1587"/>
                </a:lnTo>
                <a:lnTo>
                  <a:pt x="2679" y="1587"/>
                </a:lnTo>
                <a:lnTo>
                  <a:pt x="2679" y="1566"/>
                </a:lnTo>
                <a:lnTo>
                  <a:pt x="2610" y="1566"/>
                </a:lnTo>
                <a:lnTo>
                  <a:pt x="2542" y="1564"/>
                </a:lnTo>
                <a:lnTo>
                  <a:pt x="2474" y="1562"/>
                </a:lnTo>
                <a:lnTo>
                  <a:pt x="2407" y="1559"/>
                </a:lnTo>
                <a:lnTo>
                  <a:pt x="2341" y="1553"/>
                </a:lnTo>
                <a:lnTo>
                  <a:pt x="2274" y="1548"/>
                </a:lnTo>
                <a:lnTo>
                  <a:pt x="2208" y="1542"/>
                </a:lnTo>
                <a:lnTo>
                  <a:pt x="2144" y="1535"/>
                </a:lnTo>
                <a:lnTo>
                  <a:pt x="2078" y="1526"/>
                </a:lnTo>
                <a:lnTo>
                  <a:pt x="2014" y="1517"/>
                </a:lnTo>
                <a:lnTo>
                  <a:pt x="1952" y="1507"/>
                </a:lnTo>
                <a:lnTo>
                  <a:pt x="1888" y="1496"/>
                </a:lnTo>
                <a:lnTo>
                  <a:pt x="1826" y="1483"/>
                </a:lnTo>
                <a:lnTo>
                  <a:pt x="1766" y="1471"/>
                </a:lnTo>
                <a:lnTo>
                  <a:pt x="1704" y="1456"/>
                </a:lnTo>
                <a:lnTo>
                  <a:pt x="1645" y="1442"/>
                </a:lnTo>
                <a:lnTo>
                  <a:pt x="1585" y="1428"/>
                </a:lnTo>
                <a:lnTo>
                  <a:pt x="1527" y="1412"/>
                </a:lnTo>
                <a:lnTo>
                  <a:pt x="1468" y="1394"/>
                </a:lnTo>
                <a:lnTo>
                  <a:pt x="1412" y="1376"/>
                </a:lnTo>
                <a:lnTo>
                  <a:pt x="1355" y="1358"/>
                </a:lnTo>
                <a:lnTo>
                  <a:pt x="1300" y="1338"/>
                </a:lnTo>
                <a:lnTo>
                  <a:pt x="1246" y="1319"/>
                </a:lnTo>
                <a:lnTo>
                  <a:pt x="1193" y="1297"/>
                </a:lnTo>
                <a:lnTo>
                  <a:pt x="1140" y="1276"/>
                </a:lnTo>
                <a:lnTo>
                  <a:pt x="1088" y="1254"/>
                </a:lnTo>
                <a:lnTo>
                  <a:pt x="1037" y="1231"/>
                </a:lnTo>
                <a:lnTo>
                  <a:pt x="988" y="1208"/>
                </a:lnTo>
                <a:lnTo>
                  <a:pt x="939" y="1182"/>
                </a:lnTo>
                <a:lnTo>
                  <a:pt x="891" y="1157"/>
                </a:lnTo>
                <a:lnTo>
                  <a:pt x="844" y="1132"/>
                </a:lnTo>
                <a:lnTo>
                  <a:pt x="798" y="1105"/>
                </a:lnTo>
                <a:lnTo>
                  <a:pt x="754" y="1079"/>
                </a:lnTo>
                <a:lnTo>
                  <a:pt x="710" y="1052"/>
                </a:lnTo>
                <a:lnTo>
                  <a:pt x="668" y="1023"/>
                </a:lnTo>
                <a:lnTo>
                  <a:pt x="626" y="994"/>
                </a:lnTo>
                <a:lnTo>
                  <a:pt x="588" y="964"/>
                </a:lnTo>
                <a:lnTo>
                  <a:pt x="548" y="935"/>
                </a:lnTo>
                <a:lnTo>
                  <a:pt x="511" y="905"/>
                </a:lnTo>
                <a:lnTo>
                  <a:pt x="475" y="873"/>
                </a:lnTo>
                <a:lnTo>
                  <a:pt x="438" y="842"/>
                </a:lnTo>
                <a:lnTo>
                  <a:pt x="406" y="810"/>
                </a:lnTo>
                <a:lnTo>
                  <a:pt x="373" y="778"/>
                </a:lnTo>
                <a:lnTo>
                  <a:pt x="342" y="744"/>
                </a:lnTo>
                <a:lnTo>
                  <a:pt x="311" y="710"/>
                </a:lnTo>
                <a:lnTo>
                  <a:pt x="283" y="676"/>
                </a:lnTo>
                <a:lnTo>
                  <a:pt x="256" y="641"/>
                </a:lnTo>
                <a:lnTo>
                  <a:pt x="230" y="607"/>
                </a:lnTo>
                <a:lnTo>
                  <a:pt x="205" y="572"/>
                </a:lnTo>
                <a:lnTo>
                  <a:pt x="183" y="536"/>
                </a:lnTo>
                <a:lnTo>
                  <a:pt x="161" y="500"/>
                </a:lnTo>
                <a:lnTo>
                  <a:pt x="141" y="464"/>
                </a:lnTo>
                <a:lnTo>
                  <a:pt x="122" y="427"/>
                </a:lnTo>
                <a:lnTo>
                  <a:pt x="104" y="389"/>
                </a:lnTo>
                <a:lnTo>
                  <a:pt x="90" y="351"/>
                </a:lnTo>
                <a:lnTo>
                  <a:pt x="75" y="314"/>
                </a:lnTo>
                <a:lnTo>
                  <a:pt x="62" y="276"/>
                </a:lnTo>
                <a:lnTo>
                  <a:pt x="51" y="237"/>
                </a:lnTo>
                <a:lnTo>
                  <a:pt x="42" y="199"/>
                </a:lnTo>
                <a:lnTo>
                  <a:pt x="35" y="160"/>
                </a:lnTo>
                <a:lnTo>
                  <a:pt x="29" y="120"/>
                </a:lnTo>
                <a:lnTo>
                  <a:pt x="24" y="81"/>
                </a:lnTo>
                <a:lnTo>
                  <a:pt x="22" y="40"/>
                </a:lnTo>
                <a:lnTo>
                  <a:pt x="2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3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3360" y="831960"/>
            <a:ext cx="4253040" cy="2519280"/>
          </a:xfrm>
          <a:custGeom>
            <a:avLst/>
            <a:gdLst/>
            <a:ahLst/>
            <a:rect l="l" t="t" r="r" b="b"/>
            <a:pathLst>
              <a:path w="2679" h="1587">
                <a:moveTo>
                  <a:pt x="2679" y="0"/>
                </a:moveTo>
                <a:lnTo>
                  <a:pt x="2610" y="0"/>
                </a:lnTo>
                <a:lnTo>
                  <a:pt x="2542" y="2"/>
                </a:lnTo>
                <a:lnTo>
                  <a:pt x="2474" y="4"/>
                </a:lnTo>
                <a:lnTo>
                  <a:pt x="2407" y="7"/>
                </a:lnTo>
                <a:lnTo>
                  <a:pt x="2339" y="13"/>
                </a:lnTo>
                <a:lnTo>
                  <a:pt x="2272" y="18"/>
                </a:lnTo>
                <a:lnTo>
                  <a:pt x="2206" y="23"/>
                </a:lnTo>
                <a:lnTo>
                  <a:pt x="2140" y="31"/>
                </a:lnTo>
                <a:lnTo>
                  <a:pt x="2076" y="40"/>
                </a:lnTo>
                <a:lnTo>
                  <a:pt x="2012" y="49"/>
                </a:lnTo>
                <a:lnTo>
                  <a:pt x="1949" y="59"/>
                </a:lnTo>
                <a:lnTo>
                  <a:pt x="1885" y="70"/>
                </a:lnTo>
                <a:lnTo>
                  <a:pt x="1823" y="83"/>
                </a:lnTo>
                <a:lnTo>
                  <a:pt x="1760" y="95"/>
                </a:lnTo>
                <a:lnTo>
                  <a:pt x="1700" y="109"/>
                </a:lnTo>
                <a:lnTo>
                  <a:pt x="1640" y="124"/>
                </a:lnTo>
                <a:lnTo>
                  <a:pt x="1580" y="140"/>
                </a:lnTo>
                <a:lnTo>
                  <a:pt x="1521" y="156"/>
                </a:lnTo>
                <a:lnTo>
                  <a:pt x="1463" y="172"/>
                </a:lnTo>
                <a:lnTo>
                  <a:pt x="1404" y="190"/>
                </a:lnTo>
                <a:lnTo>
                  <a:pt x="1350" y="210"/>
                </a:lnTo>
                <a:lnTo>
                  <a:pt x="1293" y="229"/>
                </a:lnTo>
                <a:lnTo>
                  <a:pt x="1238" y="249"/>
                </a:lnTo>
                <a:lnTo>
                  <a:pt x="1185" y="271"/>
                </a:lnTo>
                <a:lnTo>
                  <a:pt x="1132" y="292"/>
                </a:lnTo>
                <a:lnTo>
                  <a:pt x="1079" y="314"/>
                </a:lnTo>
                <a:lnTo>
                  <a:pt x="1028" y="337"/>
                </a:lnTo>
                <a:lnTo>
                  <a:pt x="979" y="362"/>
                </a:lnTo>
                <a:lnTo>
                  <a:pt x="930" y="385"/>
                </a:lnTo>
                <a:lnTo>
                  <a:pt x="880" y="410"/>
                </a:lnTo>
                <a:lnTo>
                  <a:pt x="835" y="437"/>
                </a:lnTo>
                <a:lnTo>
                  <a:pt x="787" y="464"/>
                </a:lnTo>
                <a:lnTo>
                  <a:pt x="743" y="491"/>
                </a:lnTo>
                <a:lnTo>
                  <a:pt x="700" y="520"/>
                </a:lnTo>
                <a:lnTo>
                  <a:pt x="656" y="546"/>
                </a:lnTo>
                <a:lnTo>
                  <a:pt x="614" y="577"/>
                </a:lnTo>
                <a:lnTo>
                  <a:pt x="574" y="606"/>
                </a:lnTo>
                <a:lnTo>
                  <a:pt x="535" y="636"/>
                </a:lnTo>
                <a:lnTo>
                  <a:pt x="497" y="667"/>
                </a:lnTo>
                <a:lnTo>
                  <a:pt x="460" y="699"/>
                </a:lnTo>
                <a:lnTo>
                  <a:pt x="424" y="731"/>
                </a:lnTo>
                <a:lnTo>
                  <a:pt x="389" y="763"/>
                </a:lnTo>
                <a:lnTo>
                  <a:pt x="356" y="795"/>
                </a:lnTo>
                <a:lnTo>
                  <a:pt x="325" y="830"/>
                </a:lnTo>
                <a:lnTo>
                  <a:pt x="294" y="864"/>
                </a:lnTo>
                <a:lnTo>
                  <a:pt x="265" y="898"/>
                </a:lnTo>
                <a:lnTo>
                  <a:pt x="238" y="933"/>
                </a:lnTo>
                <a:lnTo>
                  <a:pt x="212" y="967"/>
                </a:lnTo>
                <a:lnTo>
                  <a:pt x="186" y="1003"/>
                </a:lnTo>
                <a:lnTo>
                  <a:pt x="163" y="1041"/>
                </a:lnTo>
                <a:lnTo>
                  <a:pt x="141" y="1077"/>
                </a:lnTo>
                <a:lnTo>
                  <a:pt x="121" y="1114"/>
                </a:lnTo>
                <a:lnTo>
                  <a:pt x="102" y="1152"/>
                </a:lnTo>
                <a:lnTo>
                  <a:pt x="84" y="1190"/>
                </a:lnTo>
                <a:lnTo>
                  <a:pt x="68" y="1227"/>
                </a:lnTo>
                <a:lnTo>
                  <a:pt x="55" y="1267"/>
                </a:lnTo>
                <a:lnTo>
                  <a:pt x="42" y="1306"/>
                </a:lnTo>
                <a:lnTo>
                  <a:pt x="31" y="1345"/>
                </a:lnTo>
                <a:lnTo>
                  <a:pt x="20" y="1385"/>
                </a:lnTo>
                <a:lnTo>
                  <a:pt x="13" y="1424"/>
                </a:lnTo>
                <a:lnTo>
                  <a:pt x="7" y="1465"/>
                </a:lnTo>
                <a:lnTo>
                  <a:pt x="2" y="1505"/>
                </a:lnTo>
                <a:lnTo>
                  <a:pt x="0" y="1546"/>
                </a:lnTo>
                <a:lnTo>
                  <a:pt x="0" y="1587"/>
                </a:lnTo>
                <a:lnTo>
                  <a:pt x="22" y="1587"/>
                </a:lnTo>
                <a:lnTo>
                  <a:pt x="22" y="1548"/>
                </a:lnTo>
                <a:lnTo>
                  <a:pt x="24" y="1507"/>
                </a:lnTo>
                <a:lnTo>
                  <a:pt x="29" y="1467"/>
                </a:lnTo>
                <a:lnTo>
                  <a:pt x="35" y="1428"/>
                </a:lnTo>
                <a:lnTo>
                  <a:pt x="42" y="1388"/>
                </a:lnTo>
                <a:lnTo>
                  <a:pt x="51" y="1351"/>
                </a:lnTo>
                <a:lnTo>
                  <a:pt x="62" y="1311"/>
                </a:lnTo>
                <a:lnTo>
                  <a:pt x="75" y="1274"/>
                </a:lnTo>
                <a:lnTo>
                  <a:pt x="90" y="1236"/>
                </a:lnTo>
                <a:lnTo>
                  <a:pt x="104" y="1199"/>
                </a:lnTo>
                <a:lnTo>
                  <a:pt x="122" y="1161"/>
                </a:lnTo>
                <a:lnTo>
                  <a:pt x="141" y="1123"/>
                </a:lnTo>
                <a:lnTo>
                  <a:pt x="161" y="1087"/>
                </a:lnTo>
                <a:lnTo>
                  <a:pt x="183" y="1052"/>
                </a:lnTo>
                <a:lnTo>
                  <a:pt x="205" y="1016"/>
                </a:lnTo>
                <a:lnTo>
                  <a:pt x="230" y="980"/>
                </a:lnTo>
                <a:lnTo>
                  <a:pt x="256" y="946"/>
                </a:lnTo>
                <a:lnTo>
                  <a:pt x="283" y="912"/>
                </a:lnTo>
                <a:lnTo>
                  <a:pt x="311" y="878"/>
                </a:lnTo>
                <a:lnTo>
                  <a:pt x="342" y="844"/>
                </a:lnTo>
                <a:lnTo>
                  <a:pt x="373" y="810"/>
                </a:lnTo>
                <a:lnTo>
                  <a:pt x="406" y="778"/>
                </a:lnTo>
                <a:lnTo>
                  <a:pt x="438" y="745"/>
                </a:lnTo>
                <a:lnTo>
                  <a:pt x="475" y="715"/>
                </a:lnTo>
                <a:lnTo>
                  <a:pt x="511" y="683"/>
                </a:lnTo>
                <a:lnTo>
                  <a:pt x="548" y="652"/>
                </a:lnTo>
                <a:lnTo>
                  <a:pt x="588" y="624"/>
                </a:lnTo>
                <a:lnTo>
                  <a:pt x="626" y="593"/>
                </a:lnTo>
                <a:lnTo>
                  <a:pt x="668" y="564"/>
                </a:lnTo>
                <a:lnTo>
                  <a:pt x="710" y="538"/>
                </a:lnTo>
                <a:lnTo>
                  <a:pt x="754" y="509"/>
                </a:lnTo>
                <a:lnTo>
                  <a:pt x="798" y="482"/>
                </a:lnTo>
                <a:lnTo>
                  <a:pt x="844" y="455"/>
                </a:lnTo>
                <a:lnTo>
                  <a:pt x="891" y="430"/>
                </a:lnTo>
                <a:lnTo>
                  <a:pt x="939" y="405"/>
                </a:lnTo>
                <a:lnTo>
                  <a:pt x="988" y="380"/>
                </a:lnTo>
                <a:lnTo>
                  <a:pt x="1037" y="357"/>
                </a:lnTo>
                <a:lnTo>
                  <a:pt x="1088" y="333"/>
                </a:lnTo>
                <a:lnTo>
                  <a:pt x="1140" y="312"/>
                </a:lnTo>
                <a:lnTo>
                  <a:pt x="1193" y="290"/>
                </a:lnTo>
                <a:lnTo>
                  <a:pt x="1246" y="269"/>
                </a:lnTo>
                <a:lnTo>
                  <a:pt x="1300" y="249"/>
                </a:lnTo>
                <a:lnTo>
                  <a:pt x="1355" y="229"/>
                </a:lnTo>
                <a:lnTo>
                  <a:pt x="1412" y="212"/>
                </a:lnTo>
                <a:lnTo>
                  <a:pt x="1468" y="194"/>
                </a:lnTo>
                <a:lnTo>
                  <a:pt x="1527" y="176"/>
                </a:lnTo>
                <a:lnTo>
                  <a:pt x="1585" y="160"/>
                </a:lnTo>
                <a:lnTo>
                  <a:pt x="1645" y="145"/>
                </a:lnTo>
                <a:lnTo>
                  <a:pt x="1704" y="131"/>
                </a:lnTo>
                <a:lnTo>
                  <a:pt x="1766" y="117"/>
                </a:lnTo>
                <a:lnTo>
                  <a:pt x="1826" y="104"/>
                </a:lnTo>
                <a:lnTo>
                  <a:pt x="1888" y="92"/>
                </a:lnTo>
                <a:lnTo>
                  <a:pt x="1952" y="81"/>
                </a:lnTo>
                <a:lnTo>
                  <a:pt x="2014" y="70"/>
                </a:lnTo>
                <a:lnTo>
                  <a:pt x="2078" y="61"/>
                </a:lnTo>
                <a:lnTo>
                  <a:pt x="2144" y="52"/>
                </a:lnTo>
                <a:lnTo>
                  <a:pt x="2208" y="45"/>
                </a:lnTo>
                <a:lnTo>
                  <a:pt x="2274" y="40"/>
                </a:lnTo>
                <a:lnTo>
                  <a:pt x="2341" y="34"/>
                </a:lnTo>
                <a:lnTo>
                  <a:pt x="2407" y="29"/>
                </a:lnTo>
                <a:lnTo>
                  <a:pt x="2474" y="25"/>
                </a:lnTo>
                <a:lnTo>
                  <a:pt x="2542" y="23"/>
                </a:lnTo>
                <a:lnTo>
                  <a:pt x="2610" y="22"/>
                </a:lnTo>
                <a:lnTo>
                  <a:pt x="2679" y="22"/>
                </a:lnTo>
                <a:lnTo>
                  <a:pt x="2679" y="0"/>
                </a:lnTo>
                <a:close/>
              </a:path>
            </a:pathLst>
          </a:custGeom>
          <a:solidFill>
            <a:srgbClr val="003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95640" y="2395440"/>
            <a:ext cx="374760" cy="588960"/>
          </a:xfrm>
          <a:custGeom>
            <a:avLst/>
            <a:gdLst/>
            <a:ahLst/>
            <a:rect l="l" t="t" r="r" b="b"/>
            <a:pathLst>
              <a:path w="236" h="371">
                <a:moveTo>
                  <a:pt x="11" y="6"/>
                </a:moveTo>
                <a:lnTo>
                  <a:pt x="0" y="11"/>
                </a:lnTo>
                <a:lnTo>
                  <a:pt x="218" y="371"/>
                </a:lnTo>
                <a:lnTo>
                  <a:pt x="236" y="360"/>
                </a:lnTo>
                <a:lnTo>
                  <a:pt x="20" y="0"/>
                </a:lnTo>
                <a:lnTo>
                  <a:pt x="11" y="6"/>
                </a:lnTo>
                <a:close/>
              </a:path>
            </a:pathLst>
          </a:cu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81440" y="2836800"/>
            <a:ext cx="470160" cy="198360"/>
          </a:xfrm>
          <a:custGeom>
            <a:avLst/>
            <a:gdLst/>
            <a:ahLst/>
            <a:rect l="l" t="t" r="r" b="b"/>
            <a:pathLst>
              <a:path w="296" h="125">
                <a:moveTo>
                  <a:pt x="292" y="11"/>
                </a:moveTo>
                <a:lnTo>
                  <a:pt x="289" y="0"/>
                </a:lnTo>
                <a:lnTo>
                  <a:pt x="0" y="106"/>
                </a:lnTo>
                <a:lnTo>
                  <a:pt x="8" y="125"/>
                </a:lnTo>
                <a:lnTo>
                  <a:pt x="296" y="20"/>
                </a:lnTo>
                <a:lnTo>
                  <a:pt x="292" y="11"/>
                </a:lnTo>
                <a:close/>
              </a:path>
            </a:pathLst>
          </a:cu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59680" y="1878120"/>
            <a:ext cx="34920" cy="447480"/>
          </a:xfrm>
          <a:custGeom>
            <a:avLst/>
            <a:gdLst/>
            <a:ahLst/>
            <a:rect l="l" t="t" r="r" b="b"/>
            <a:pathLst>
              <a:path w="22" h="282">
                <a:moveTo>
                  <a:pt x="11" y="0"/>
                </a:moveTo>
                <a:lnTo>
                  <a:pt x="0" y="0"/>
                </a:lnTo>
                <a:lnTo>
                  <a:pt x="0" y="282"/>
                </a:lnTo>
                <a:lnTo>
                  <a:pt x="22" y="282"/>
                </a:lnTo>
                <a:lnTo>
                  <a:pt x="22" y="0"/>
                </a:lnTo>
                <a:lnTo>
                  <a:pt x="11" y="0"/>
                </a:lnTo>
                <a:close/>
              </a:path>
            </a:pathLst>
          </a:cu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10120" y="1406520"/>
            <a:ext cx="249120" cy="182520"/>
          </a:xfrm>
          <a:custGeom>
            <a:avLst/>
            <a:gdLst/>
            <a:ahLst/>
            <a:rect l="l" t="t" r="r" b="b"/>
            <a:pathLst>
              <a:path w="157" h="115">
                <a:moveTo>
                  <a:pt x="5" y="9"/>
                </a:moveTo>
                <a:lnTo>
                  <a:pt x="0" y="18"/>
                </a:lnTo>
                <a:lnTo>
                  <a:pt x="144" y="115"/>
                </a:lnTo>
                <a:lnTo>
                  <a:pt x="157" y="99"/>
                </a:lnTo>
                <a:lnTo>
                  <a:pt x="12" y="0"/>
                </a:lnTo>
                <a:lnTo>
                  <a:pt x="5" y="9"/>
                </a:lnTo>
                <a:close/>
              </a:path>
            </a:pathLst>
          </a:cu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98840" y="2052720"/>
            <a:ext cx="1662120" cy="288720"/>
          </a:xfrm>
          <a:custGeom>
            <a:avLst/>
            <a:gdLst/>
            <a:ahLst/>
            <a:rect l="l" t="t" r="r" b="b"/>
            <a:pathLst>
              <a:path w="1047" h="182">
                <a:moveTo>
                  <a:pt x="2" y="10"/>
                </a:moveTo>
                <a:lnTo>
                  <a:pt x="0" y="21"/>
                </a:lnTo>
                <a:lnTo>
                  <a:pt x="1043" y="182"/>
                </a:lnTo>
                <a:lnTo>
                  <a:pt x="1047" y="163"/>
                </a:lnTo>
                <a:lnTo>
                  <a:pt x="4" y="0"/>
                </a:lnTo>
                <a:lnTo>
                  <a:pt x="2" y="10"/>
                </a:lnTo>
                <a:close/>
              </a:path>
            </a:pathLst>
          </a:cu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94160" y="1427040"/>
            <a:ext cx="619200" cy="266760"/>
          </a:xfrm>
          <a:custGeom>
            <a:avLst/>
            <a:gdLst/>
            <a:ahLst/>
            <a:rect l="l" t="t" r="r" b="b"/>
            <a:pathLst>
              <a:path w="390" h="168">
                <a:moveTo>
                  <a:pt x="385" y="8"/>
                </a:moveTo>
                <a:lnTo>
                  <a:pt x="381" y="0"/>
                </a:lnTo>
                <a:lnTo>
                  <a:pt x="0" y="146"/>
                </a:lnTo>
                <a:lnTo>
                  <a:pt x="9" y="168"/>
                </a:lnTo>
                <a:lnTo>
                  <a:pt x="390" y="19"/>
                </a:lnTo>
                <a:lnTo>
                  <a:pt x="385" y="8"/>
                </a:lnTo>
                <a:close/>
              </a:path>
            </a:pathLst>
          </a:custGeom>
          <a:solidFill>
            <a:srgbClr val="ff1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52880" y="1201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AZI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67080" y="333540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8f8f8"/>
                </a:solidFill>
                <a:latin typeface="Arial"/>
              </a:rPr>
              <a:t>SISTEMA CONCORRENZIA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67080" y="461484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8f8f8"/>
                </a:solidFill>
                <a:latin typeface="Arial"/>
              </a:rPr>
              <a:t>AMBIENTE AZIENDA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67080" y="560556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8f8f8"/>
                </a:solidFill>
                <a:latin typeface="Arial"/>
              </a:rPr>
              <a:t>AMBIENTE GENERA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560" y="3944880"/>
            <a:ext cx="1384200" cy="628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38280" y="4554360"/>
            <a:ext cx="1557360" cy="642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862600" y="4638600"/>
            <a:ext cx="1467000" cy="677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919160" y="3411360"/>
            <a:ext cx="1762200" cy="811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3613320" y="3792600"/>
            <a:ext cx="1793880" cy="807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0"/>
          <a:stretch/>
        </p:blipFill>
        <p:spPr>
          <a:xfrm>
            <a:off x="5338800" y="3487680"/>
            <a:ext cx="1762200" cy="809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1"/>
          <a:stretch/>
        </p:blipFill>
        <p:spPr>
          <a:xfrm>
            <a:off x="6873840" y="4032360"/>
            <a:ext cx="1522440" cy="674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2"/>
          <a:stretch/>
        </p:blipFill>
        <p:spPr>
          <a:xfrm>
            <a:off x="4303800" y="5011560"/>
            <a:ext cx="1501560" cy="574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3"/>
          <a:stretch/>
        </p:blipFill>
        <p:spPr>
          <a:xfrm>
            <a:off x="2909880" y="4935600"/>
            <a:ext cx="1303200" cy="698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4"/>
          <a:stretch/>
        </p:blipFill>
        <p:spPr>
          <a:xfrm>
            <a:off x="3443400" y="2573280"/>
            <a:ext cx="1279440" cy="741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2529000" y="1679400"/>
            <a:ext cx="1143000" cy="774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7"/>
          <a:stretch/>
        </p:blipFill>
        <p:spPr>
          <a:xfrm>
            <a:off x="5119560" y="2179800"/>
            <a:ext cx="1290600" cy="774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5153040" y="1582560"/>
            <a:ext cx="1338120" cy="314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45960" y="122400"/>
            <a:ext cx="84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L SISTEMA AMBIENTALE PER IL PUBBLICO ESERCIZ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6089760"/>
            <a:ext cx="91440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Fipetif" descr=""/>
          <p:cNvPicPr/>
          <p:nvPr/>
        </p:nvPicPr>
        <p:blipFill>
          <a:blip r:embed="rId20"/>
          <a:stretch/>
        </p:blipFill>
        <p:spPr>
          <a:xfrm>
            <a:off x="8305920" y="6089760"/>
            <a:ext cx="57456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562720" y="6278400"/>
            <a:ext cx="2590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FEDERAZIONE ITALIA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PUBBLICI ESERCIZ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624204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www.fipe.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71680" y="3571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PE SI MUOVE LUNGO TRE ASS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33640" y="1974960"/>
            <a:ext cx="327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. INNOV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089760"/>
            <a:ext cx="91440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Fipetif" descr=""/>
          <p:cNvPicPr/>
          <p:nvPr/>
        </p:nvPicPr>
        <p:blipFill>
          <a:blip r:embed="rId1"/>
          <a:stretch/>
        </p:blipFill>
        <p:spPr>
          <a:xfrm>
            <a:off x="8305920" y="6089760"/>
            <a:ext cx="574560" cy="685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562720" y="6278400"/>
            <a:ext cx="2590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FEDERAZIONE ITALIA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PUBBLICI ESERCIZ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624204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www.fipe.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33640" y="2965320"/>
            <a:ext cx="327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. QUALI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33640" y="3956040"/>
            <a:ext cx="327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. TRADI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71680" y="3571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PE SI MUOVE LUNGO TRE ASS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2508120"/>
            <a:ext cx="76201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60000"/>
              </a:lnSpc>
              <a:spcBef>
                <a:spcPts val="1125"/>
              </a:spcBef>
              <a:buClr>
                <a:srgbClr val="66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8f8f8"/>
                </a:solidFill>
                <a:latin typeface="Arial"/>
              </a:rPr>
              <a:t>AMMINISTRATIVA </a:t>
            </a:r>
            <a:r>
              <a:rPr b="0" lang="it-IT" sz="1800" spc="-1" strike="noStrike">
                <a:solidFill>
                  <a:srgbClr val="66ccff"/>
                </a:solidFill>
                <a:latin typeface="Arial"/>
              </a:rPr>
              <a:t>(tipologia un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60000"/>
              </a:lnSpc>
              <a:spcBef>
                <a:spcPts val="1125"/>
              </a:spcBef>
              <a:buClr>
                <a:srgbClr val="66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8f8f8"/>
                </a:solidFill>
                <a:latin typeface="Arial"/>
              </a:rPr>
              <a:t>TECNOLOGICA </a:t>
            </a:r>
            <a:r>
              <a:rPr b="0" lang="it-IT" sz="1800" spc="-1" strike="noStrike">
                <a:solidFill>
                  <a:srgbClr val="66ccff"/>
                </a:solidFill>
                <a:latin typeface="Arial"/>
              </a:rPr>
              <a:t>(internet, virtual marketplace, e-cash, ec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60000"/>
              </a:lnSpc>
              <a:spcBef>
                <a:spcPts val="1125"/>
              </a:spcBef>
              <a:buClr>
                <a:srgbClr val="66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8f8f8"/>
                </a:solidFill>
                <a:latin typeface="Arial"/>
              </a:rPr>
              <a:t>COMMERCIALE </a:t>
            </a:r>
            <a:r>
              <a:rPr b="0" lang="it-IT" sz="1800" spc="-1" strike="noStrike">
                <a:solidFill>
                  <a:srgbClr val="66ccff"/>
                </a:solidFill>
                <a:latin typeface="Arial"/>
              </a:rPr>
              <a:t>(ibridazione, nuovi servizi, ec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60000"/>
              </a:lnSpc>
              <a:spcBef>
                <a:spcPts val="1125"/>
              </a:spcBef>
              <a:buClr>
                <a:srgbClr val="66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8f8f8"/>
                </a:solidFill>
                <a:latin typeface="Arial"/>
              </a:rPr>
              <a:t>STRUTTURALE </a:t>
            </a:r>
            <a:r>
              <a:rPr b="0" lang="it-IT" sz="1800" spc="-1" strike="noStrike">
                <a:solidFill>
                  <a:srgbClr val="66ccff"/>
                </a:solidFill>
                <a:latin typeface="Arial"/>
              </a:rPr>
              <a:t>(incentivi per l’ammodernam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1593720"/>
            <a:ext cx="327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. INNOV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6089760"/>
            <a:ext cx="91440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Fipetif" descr=""/>
          <p:cNvPicPr/>
          <p:nvPr/>
        </p:nvPicPr>
        <p:blipFill>
          <a:blip r:embed="rId1"/>
          <a:stretch/>
        </p:blipFill>
        <p:spPr>
          <a:xfrm>
            <a:off x="8305920" y="6089760"/>
            <a:ext cx="574560" cy="685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562720" y="6278400"/>
            <a:ext cx="2590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FEDERAZIONE ITALIA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PUBBLICI ESERCIZ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624204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www.fipe.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90720" y="2221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egue  FIPE SI MUOVE LUNGO TRE ASS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3041640"/>
            <a:ext cx="76201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60000"/>
              </a:lnSpc>
              <a:spcBef>
                <a:spcPts val="1375"/>
              </a:spcBef>
              <a:buClr>
                <a:srgbClr val="66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FORMAZIONE / ADDESTRAMENT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1593720"/>
            <a:ext cx="327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. QUALI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6089760"/>
            <a:ext cx="91440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Fipetif" descr=""/>
          <p:cNvPicPr/>
          <p:nvPr/>
        </p:nvPicPr>
        <p:blipFill>
          <a:blip r:embed="rId1"/>
          <a:stretch/>
        </p:blipFill>
        <p:spPr>
          <a:xfrm>
            <a:off x="8305920" y="6089760"/>
            <a:ext cx="57456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562720" y="6278400"/>
            <a:ext cx="2590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FEDERAZIONE ITALIA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PUBBLICI ESERCIZ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624204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www.fipe.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1301400" y="3727440"/>
            <a:ext cx="47692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60000"/>
              </a:lnSpc>
              <a:spcBef>
                <a:spcPts val="1125"/>
              </a:spcBef>
              <a:buClr>
                <a:srgbClr val="66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CERTIFICAZIONE </a:t>
            </a: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(marchi di qualità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90720" y="2221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egue  FIPE SI MUOVE LUNGO TRE ASS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3479760"/>
            <a:ext cx="76201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60000"/>
              </a:lnSpc>
              <a:spcBef>
                <a:spcPts val="1375"/>
              </a:spcBef>
              <a:buClr>
                <a:srgbClr val="66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INTEGRAZIONE FILIERA AGRO-ALIMENT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1593720"/>
            <a:ext cx="327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. TRADI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089760"/>
            <a:ext cx="91440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Fipetif" descr=""/>
          <p:cNvPicPr/>
          <p:nvPr/>
        </p:nvPicPr>
        <p:blipFill>
          <a:blip r:embed="rId1"/>
          <a:stretch/>
        </p:blipFill>
        <p:spPr>
          <a:xfrm>
            <a:off x="8305920" y="6089760"/>
            <a:ext cx="57456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562720" y="6278400"/>
            <a:ext cx="2590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FEDERAZIONE ITALIA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PUBBLICI ESERCIZ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624204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www.fipe.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1302840" y="2641680"/>
            <a:ext cx="59475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60000"/>
              </a:lnSpc>
              <a:spcBef>
                <a:spcPts val="1375"/>
              </a:spcBef>
              <a:buClr>
                <a:srgbClr val="66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CERTIFICAZIONE “RISTORANTE TIPICO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09480" y="0"/>
            <a:ext cx="80010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CON L’OBIETTIVO DI SUPERARE UNA VISIONE DIFFUSA, MA DISTORTA,  SECONDO CU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0800000">
            <a:off x="609120" y="1523520"/>
            <a:ext cx="7696440" cy="281952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1523880"/>
            <a:ext cx="2057400" cy="8384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00400" y="1523880"/>
            <a:ext cx="2209680" cy="8384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523880"/>
            <a:ext cx="3124080" cy="83844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19051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DI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184464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DIZ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19920" y="16765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UBBLICI ESERCIZI OBSOLE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90920" y="1828800"/>
            <a:ext cx="533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1828800"/>
            <a:ext cx="533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2803680"/>
            <a:ext cx="2057400" cy="7617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803680"/>
            <a:ext cx="2209680" cy="7617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00800" y="2803680"/>
            <a:ext cx="2286000" cy="76176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310824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OD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29000" y="30481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NOV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9920" y="30322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AT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66880" y="3032280"/>
            <a:ext cx="533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3032280"/>
            <a:ext cx="533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4495680"/>
            <a:ext cx="861048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L PE TRADIZIONALE E’ DESTINATO A SOCCOMB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IL MODERNO SONO LE CAT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RINNOVARE  VUOL DIRE  IIMPORTARE LO STILE AMERIC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63244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Fipetif" descr=""/>
          <p:cNvPicPr/>
          <p:nvPr/>
        </p:nvPicPr>
        <p:blipFill>
          <a:blip r:embed="rId1"/>
          <a:stretch/>
        </p:blipFill>
        <p:spPr>
          <a:xfrm>
            <a:off x="8305920" y="6324480"/>
            <a:ext cx="574560" cy="685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562720" y="6513480"/>
            <a:ext cx="2590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FEDERAZIONE ITALIA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PUBBLICI ESERCIZ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64771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www.fipe.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6089760"/>
            <a:ext cx="91440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Fipetif" descr=""/>
          <p:cNvPicPr/>
          <p:nvPr/>
        </p:nvPicPr>
        <p:blipFill>
          <a:blip r:embed="rId1"/>
          <a:stretch/>
        </p:blipFill>
        <p:spPr>
          <a:xfrm>
            <a:off x="8305920" y="6089760"/>
            <a:ext cx="57456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562720" y="6278400"/>
            <a:ext cx="2590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FEDERAZIONE ITALIA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PUBBLICI ESERCIZ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624204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www.fipe.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1680" y="152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L FUTURO DEL 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1371600"/>
            <a:ext cx="761976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1) L’OFFERTA (di prodotto e di serviz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2) IL SERVIZ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3) IL PREZZ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762120"/>
            <a:ext cx="327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RE AREE CRIT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3749760"/>
            <a:ext cx="73911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10000"/>
              </a:lnSpc>
              <a:spcBef>
                <a:spcPts val="1375"/>
              </a:spcBef>
              <a:buClr>
                <a:srgbClr val="ffff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l brand (caratterizzazione dell’esercizio  e/o dei pubblici esercizi)  --- i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10000"/>
              </a:lnSpc>
              <a:spcBef>
                <a:spcPts val="1375"/>
              </a:spcBef>
              <a:buClr>
                <a:srgbClr val="ffff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la formazione degli addetti (cultura del servizio e di impres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10000"/>
              </a:lnSpc>
              <a:spcBef>
                <a:spcPts val="1375"/>
              </a:spcBef>
              <a:buClr>
                <a:srgbClr val="ffff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la  qualità dei prodotti e degli ambien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3124080"/>
            <a:ext cx="327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RE VIE DI USC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Fipetif" descr=""/>
          <p:cNvPicPr/>
          <p:nvPr/>
        </p:nvPicPr>
        <p:blipFill>
          <a:blip r:embed="rId1"/>
          <a:stretch/>
        </p:blipFill>
        <p:spPr>
          <a:xfrm>
            <a:off x="8369280" y="6248520"/>
            <a:ext cx="511200" cy="6094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562720" y="6284880"/>
            <a:ext cx="2590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FEDERAZIONE ITALIA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PUBBLICI ESERCIZ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62485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www.fipe.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00920" y="530280"/>
            <a:ext cx="599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UALE MODELLO PER LA RISTORAZIONE ITALIAN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78120" y="5699160"/>
            <a:ext cx="615492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Narrow"/>
              </a:rPr>
              <a:t>ESISTE UNA VIA ITALIANA PER LA RISTORAZION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3440" y="1279440"/>
            <a:ext cx="2250720" cy="175284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908680" y="1279440"/>
            <a:ext cx="2251080" cy="175284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35320" y="3794040"/>
            <a:ext cx="2251080" cy="175284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2280" y="822240"/>
            <a:ext cx="36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MODELLO ANGLOSASS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97360" y="82224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MODELLO FRANCE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24360" y="32749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MODELLO ITALI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44560" y="1812960"/>
            <a:ext cx="2039760" cy="0"/>
          </a:xfrm>
          <a:prstGeom prst="line">
            <a:avLst/>
          </a:prstGeom>
          <a:ln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81240" y="1203480"/>
            <a:ext cx="1628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ff"/>
                </a:solidFill>
                <a:latin typeface="Arial Narrow"/>
              </a:rPr>
              <a:t>Ristorazione di qu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73360" y="2146320"/>
            <a:ext cx="136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ff"/>
                </a:solidFill>
                <a:latin typeface="Arial Narrow"/>
              </a:rPr>
              <a:t>Ristorazione velo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6560" y="1127160"/>
            <a:ext cx="128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ff"/>
                </a:solidFill>
                <a:latin typeface="Arial Narrow"/>
              </a:rPr>
              <a:t>Ristorazione di qu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08680" y="1812960"/>
            <a:ext cx="2320920" cy="0"/>
          </a:xfrm>
          <a:prstGeom prst="line">
            <a:avLst/>
          </a:prstGeom>
          <a:ln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908680" y="2193840"/>
            <a:ext cx="2320920" cy="0"/>
          </a:xfrm>
          <a:prstGeom prst="line">
            <a:avLst/>
          </a:prstGeom>
          <a:ln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908680" y="2575080"/>
            <a:ext cx="2320920" cy="0"/>
          </a:xfrm>
          <a:prstGeom prst="line">
            <a:avLst/>
          </a:prstGeom>
          <a:ln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2527200"/>
            <a:ext cx="147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ff"/>
                </a:solidFill>
                <a:latin typeface="Arial Narrow"/>
              </a:rPr>
              <a:t>Ristorazione velo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41840" y="3641760"/>
            <a:ext cx="137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ff"/>
                </a:solidFill>
                <a:latin typeface="Arial Narrow"/>
              </a:rPr>
              <a:t>Ristorazione di qu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86400" y="504180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ff"/>
                </a:solidFill>
                <a:latin typeface="Arial Narrow"/>
              </a:rPr>
              <a:t>Ristorazione velo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65480" y="5165640"/>
            <a:ext cx="2320920" cy="0"/>
          </a:xfrm>
          <a:prstGeom prst="line">
            <a:avLst/>
          </a:prstGeom>
          <a:ln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65480" y="4251240"/>
            <a:ext cx="2320920" cy="0"/>
          </a:xfrm>
          <a:prstGeom prst="line">
            <a:avLst/>
          </a:prstGeom>
          <a:ln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1687320" y="3184200"/>
            <a:ext cx="1477800" cy="16002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466240" y="3222720"/>
            <a:ext cx="1586520" cy="14479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0"/>
            <a:ext cx="68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L FUTURO DEL RISTOR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80880" y="533520"/>
            <a:ext cx="838224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UTTO QUESTO VA COMUNICATO AI PUBBLICI ESERCI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5321160"/>
            <a:ext cx="914400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. . . E 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MIXER</a:t>
            </a:r>
            <a:r>
              <a:rPr b="0" lang="en-US" sz="5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I DA’ UNA GRANDE 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4T19:18:28Z</dcterms:created>
  <dc:creator>Renata</dc:creator>
  <dc:description/>
  <dc:language>en-US</dc:language>
  <cp:lastModifiedBy>Renata</cp:lastModifiedBy>
  <dcterms:modified xsi:type="dcterms:W3CDTF">2002-09-25T18:17:40Z</dcterms:modified>
  <cp:revision>30</cp:revision>
  <dc:subject/>
  <dc:title>Presentazione di PowerPoint</dc:title>
</cp:coreProperties>
</file>