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wmf" ContentType="image/x-wmf"/>
  <Override PartName="/ppt/media/image25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5.wmf" ContentType="image/x-wmf"/>
  <Override PartName="/ppt/media/image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907588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B40-1D23-4E53-8DA6-62B9F4ED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918-1A46-4B8F-80B8-FF2460E0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35B-F3FE-4FD6-A137-7E5FD997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287-4736-48DC-8E9B-D6FDD1CA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A1F-6428-4A7D-8699-A0476582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82F-7F54-45C6-8B95-4EA9FBE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62E-4947-45E7-A5A4-6A40D068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840-105B-4151-8F5D-CF10C6A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93E-B7EA-4818-85FD-FBEC9409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BDB-2C28-4EC8-AD71-1809999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2F7-2AF3-41C9-AB93-07933BC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73C-0AFF-40D7-8D7C-9CA726E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AD39-7E3B-4A2D-B857-EB3440CA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4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23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25.png"/><Relationship Id="rId32" Type="http://schemas.openxmlformats.org/officeDocument/2006/relationships/image" Target="../media/image20.png"/><Relationship Id="rId33" Type="http://schemas.openxmlformats.org/officeDocument/2006/relationships/image" Target="../media/image21.png"/><Relationship Id="rId34" Type="http://schemas.openxmlformats.org/officeDocument/2006/relationships/image" Target="../media/image26.png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image" Target="../media/image18.png"/><Relationship Id="rId38" Type="http://schemas.openxmlformats.org/officeDocument/2006/relationships/image" Target="../media/image25.png"/><Relationship Id="rId39" Type="http://schemas.openxmlformats.org/officeDocument/2006/relationships/image" Target="../media/image20.png"/><Relationship Id="rId40" Type="http://schemas.openxmlformats.org/officeDocument/2006/relationships/image" Target="../media/image21.png"/><Relationship Id="rId41" Type="http://schemas.openxmlformats.org/officeDocument/2006/relationships/image" Target="../media/image27.png"/><Relationship Id="rId42" Type="http://schemas.openxmlformats.org/officeDocument/2006/relationships/image" Target="../media/image16.png"/><Relationship Id="rId43" Type="http://schemas.openxmlformats.org/officeDocument/2006/relationships/image" Target="../media/image17.png"/><Relationship Id="rId44" Type="http://schemas.openxmlformats.org/officeDocument/2006/relationships/image" Target="../media/image18.png"/><Relationship Id="rId45" Type="http://schemas.openxmlformats.org/officeDocument/2006/relationships/image" Target="../media/image28.png"/><Relationship Id="rId46" Type="http://schemas.openxmlformats.org/officeDocument/2006/relationships/image" Target="../media/image20.png"/><Relationship Id="rId47" Type="http://schemas.openxmlformats.org/officeDocument/2006/relationships/image" Target="../media/image21.png"/><Relationship Id="rId48" Type="http://schemas.openxmlformats.org/officeDocument/2006/relationships/image" Target="../media/image29.png"/><Relationship Id="rId49" Type="http://schemas.openxmlformats.org/officeDocument/2006/relationships/image" Target="../media/image16.png"/><Relationship Id="rId50" Type="http://schemas.openxmlformats.org/officeDocument/2006/relationships/image" Target="../media/image17.png"/><Relationship Id="rId51" Type="http://schemas.openxmlformats.org/officeDocument/2006/relationships/image" Target="../media/image18.png"/><Relationship Id="rId52" Type="http://schemas.openxmlformats.org/officeDocument/2006/relationships/image" Target="../media/image25.png"/><Relationship Id="rId53" Type="http://schemas.openxmlformats.org/officeDocument/2006/relationships/image" Target="../media/image20.png"/><Relationship Id="rId54" Type="http://schemas.openxmlformats.org/officeDocument/2006/relationships/image" Target="../media/image21.png"/><Relationship Id="rId55" Type="http://schemas.openxmlformats.org/officeDocument/2006/relationships/image" Target="../media/image27.png"/><Relationship Id="rId56" Type="http://schemas.openxmlformats.org/officeDocument/2006/relationships/image" Target="../media/image30.png"/><Relationship Id="rId57" Type="http://schemas.openxmlformats.org/officeDocument/2006/relationships/image" Target="../media/image31.png"/><Relationship Id="rId5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590920"/>
            <a:ext cx="6324480" cy="3733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67200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ORUM 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sull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SICUREZZA ALIMENT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967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NUOVI STILI ALIMENT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280" y="59436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Saint Vincent 26 Giugno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nfcommercio%20nuovo" descr=""/>
          <p:cNvPicPr/>
          <p:nvPr/>
        </p:nvPicPr>
        <p:blipFill>
          <a:blip r:embed="rId1"/>
          <a:stretch/>
        </p:blipFill>
        <p:spPr>
          <a:xfrm>
            <a:off x="4343400" y="2905200"/>
            <a:ext cx="1905120" cy="60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 rot="10800000">
            <a:off x="533520" y="3047760"/>
            <a:ext cx="236196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62120" y="8380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GLI ITALIANI MANGIAN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7680" y="6434280"/>
            <a:ext cx="216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Small Fonts"/>
              </a:rPr>
              <a:t>Condimento a crudo con</a:t>
            </a:r>
            <a:br>
              <a:rPr sz="1300"/>
            </a:br>
            <a:r>
              <a:rPr b="0" lang="en-US" sz="1300" spc="-1" strike="noStrike">
                <a:solidFill>
                  <a:srgbClr val="0000ff"/>
                </a:solidFill>
                <a:latin typeface="Small Fonts"/>
              </a:rPr>
              <a:t> olio d'oliva o grassi veget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92800" y="2311560"/>
            <a:ext cx="5433480" cy="4657320"/>
            <a:chOff x="892800" y="2311560"/>
            <a:chExt cx="5433480" cy="4657320"/>
          </a:xfrm>
        </p:grpSpPr>
        <p:sp>
          <p:nvSpPr>
            <p:cNvPr id="195" name=""/>
            <p:cNvSpPr/>
            <p:nvPr/>
          </p:nvSpPr>
          <p:spPr>
            <a:xfrm>
              <a:off x="3055680" y="2335320"/>
              <a:ext cx="77400" cy="4616280"/>
            </a:xfrm>
            <a:custGeom>
              <a:avLst/>
              <a:gdLst/>
              <a:ahLst/>
              <a:rect l="l" t="t" r="r" b="b"/>
              <a:pathLst>
                <a:path w="46" h="2390">
                  <a:moveTo>
                    <a:pt x="0" y="2390"/>
                  </a:moveTo>
                  <a:lnTo>
                    <a:pt x="46" y="2331"/>
                  </a:lnTo>
                  <a:lnTo>
                    <a:pt x="46" y="0"/>
                  </a:lnTo>
                  <a:lnTo>
                    <a:pt x="0" y="59"/>
                  </a:lnTo>
                  <a:lnTo>
                    <a:pt x="0" y="23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5680" y="6837480"/>
              <a:ext cx="2941200" cy="114120"/>
            </a:xfrm>
            <a:custGeom>
              <a:avLst/>
              <a:gdLst/>
              <a:ahLst/>
              <a:rect l="l" t="t" r="r" b="b"/>
              <a:pathLst>
                <a:path w="1742" h="59">
                  <a:moveTo>
                    <a:pt x="0" y="59"/>
                  </a:moveTo>
                  <a:lnTo>
                    <a:pt x="1695" y="59"/>
                  </a:lnTo>
                  <a:lnTo>
                    <a:pt x="1742" y="0"/>
                  </a:lnTo>
                  <a:lnTo>
                    <a:pt x="46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3440" y="2335320"/>
              <a:ext cx="2863440" cy="450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55680" y="2335320"/>
              <a:ext cx="77400" cy="4616280"/>
            </a:xfrm>
            <a:custGeom>
              <a:avLst/>
              <a:gdLst/>
              <a:ahLst/>
              <a:rect l="l" t="t" r="r" b="b"/>
              <a:pathLst>
                <a:path w="46" h="2390">
                  <a:moveTo>
                    <a:pt x="46" y="0"/>
                  </a:moveTo>
                  <a:lnTo>
                    <a:pt x="0" y="59"/>
                  </a:lnTo>
                  <a:lnTo>
                    <a:pt x="0" y="2390"/>
                  </a:lnTo>
                  <a:lnTo>
                    <a:pt x="46" y="2331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55680" y="6837480"/>
              <a:ext cx="2941200" cy="114120"/>
            </a:xfrm>
            <a:custGeom>
              <a:avLst/>
              <a:gdLst/>
              <a:ahLst/>
              <a:rect l="l" t="t" r="r" b="b"/>
              <a:pathLst>
                <a:path w="1742" h="59">
                  <a:moveTo>
                    <a:pt x="0" y="59"/>
                  </a:moveTo>
                  <a:lnTo>
                    <a:pt x="1695" y="59"/>
                  </a:lnTo>
                  <a:lnTo>
                    <a:pt x="1742" y="0"/>
                  </a:lnTo>
                  <a:lnTo>
                    <a:pt x="46" y="0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3440" y="2335320"/>
              <a:ext cx="2863440" cy="45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66840" y="6586560"/>
              <a:ext cx="2800080" cy="46080"/>
            </a:xfrm>
            <a:custGeom>
              <a:avLst/>
              <a:gdLst/>
              <a:ahLst/>
              <a:rect l="l" t="t" r="r" b="b"/>
              <a:pathLst>
                <a:path w="1658" h="24">
                  <a:moveTo>
                    <a:pt x="0" y="24"/>
                  </a:moveTo>
                  <a:lnTo>
                    <a:pt x="1642" y="24"/>
                  </a:lnTo>
                  <a:lnTo>
                    <a:pt x="1658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6840" y="6586560"/>
              <a:ext cx="2800080" cy="46080"/>
            </a:xfrm>
            <a:custGeom>
              <a:avLst/>
              <a:gdLst/>
              <a:ahLst/>
              <a:rect l="l" t="t" r="r" b="b"/>
              <a:pathLst>
                <a:path w="1658" h="24">
                  <a:moveTo>
                    <a:pt x="0" y="24"/>
                  </a:moveTo>
                  <a:lnTo>
                    <a:pt x="1642" y="24"/>
                  </a:lnTo>
                  <a:lnTo>
                    <a:pt x="1658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66840" y="6632640"/>
              <a:ext cx="2773080" cy="160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66840" y="6632640"/>
              <a:ext cx="2773080" cy="16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40280" y="6586560"/>
              <a:ext cx="26640" cy="2062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40280" y="6586560"/>
              <a:ext cx="26640" cy="2062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66840" y="6426360"/>
              <a:ext cx="2837880" cy="45720"/>
            </a:xfrm>
            <a:custGeom>
              <a:avLst/>
              <a:gdLst/>
              <a:ahLst/>
              <a:rect l="l" t="t" r="r" b="b"/>
              <a:pathLst>
                <a:path w="1681" h="24">
                  <a:moveTo>
                    <a:pt x="0" y="24"/>
                  </a:moveTo>
                  <a:lnTo>
                    <a:pt x="1665" y="24"/>
                  </a:lnTo>
                  <a:lnTo>
                    <a:pt x="1681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6840" y="6426360"/>
              <a:ext cx="2837880" cy="45720"/>
            </a:xfrm>
            <a:custGeom>
              <a:avLst/>
              <a:gdLst/>
              <a:ahLst/>
              <a:rect l="l" t="t" r="r" b="b"/>
              <a:pathLst>
                <a:path w="1681" h="24">
                  <a:moveTo>
                    <a:pt x="0" y="24"/>
                  </a:moveTo>
                  <a:lnTo>
                    <a:pt x="1665" y="24"/>
                  </a:lnTo>
                  <a:lnTo>
                    <a:pt x="1681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66840" y="6472080"/>
              <a:ext cx="2810880" cy="16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6840" y="6472080"/>
              <a:ext cx="2810880" cy="1605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78080" y="6426360"/>
              <a:ext cx="26640" cy="2062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78080" y="6426360"/>
              <a:ext cx="26640" cy="2062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26680" y="677052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96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78160" y="63356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97,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66840" y="6037200"/>
              <a:ext cx="2758680" cy="47520"/>
            </a:xfrm>
            <a:custGeom>
              <a:avLst/>
              <a:gdLst/>
              <a:ahLst/>
              <a:rect l="l" t="t" r="r" b="b"/>
              <a:pathLst>
                <a:path w="1634" h="24">
                  <a:moveTo>
                    <a:pt x="0" y="24"/>
                  </a:moveTo>
                  <a:lnTo>
                    <a:pt x="1611" y="24"/>
                  </a:lnTo>
                  <a:lnTo>
                    <a:pt x="1634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6840" y="6037200"/>
              <a:ext cx="2758680" cy="47520"/>
            </a:xfrm>
            <a:custGeom>
              <a:avLst/>
              <a:gdLst/>
              <a:ahLst/>
              <a:rect l="l" t="t" r="r" b="b"/>
              <a:pathLst>
                <a:path w="1634" h="24">
                  <a:moveTo>
                    <a:pt x="0" y="24"/>
                  </a:moveTo>
                  <a:lnTo>
                    <a:pt x="1611" y="24"/>
                  </a:lnTo>
                  <a:lnTo>
                    <a:pt x="1634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66840" y="6084720"/>
              <a:ext cx="2720520" cy="160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6840" y="6084720"/>
              <a:ext cx="2720520" cy="160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87720" y="6037200"/>
              <a:ext cx="37800" cy="2080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87720" y="6037200"/>
              <a:ext cx="37800" cy="2080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66840" y="5877000"/>
              <a:ext cx="2800080" cy="47520"/>
            </a:xfrm>
            <a:custGeom>
              <a:avLst/>
              <a:gdLst/>
              <a:ahLst/>
              <a:rect l="l" t="t" r="r" b="b"/>
              <a:pathLst>
                <a:path w="1658" h="24">
                  <a:moveTo>
                    <a:pt x="0" y="24"/>
                  </a:moveTo>
                  <a:lnTo>
                    <a:pt x="1634" y="24"/>
                  </a:lnTo>
                  <a:lnTo>
                    <a:pt x="1658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6840" y="5877000"/>
              <a:ext cx="2800080" cy="47520"/>
            </a:xfrm>
            <a:custGeom>
              <a:avLst/>
              <a:gdLst/>
              <a:ahLst/>
              <a:rect l="l" t="t" r="r" b="b"/>
              <a:pathLst>
                <a:path w="1658" h="24">
                  <a:moveTo>
                    <a:pt x="0" y="24"/>
                  </a:moveTo>
                  <a:lnTo>
                    <a:pt x="1634" y="24"/>
                  </a:lnTo>
                  <a:lnTo>
                    <a:pt x="1658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66840" y="5924520"/>
              <a:ext cx="2758680" cy="160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6840" y="5924520"/>
              <a:ext cx="2758680" cy="1602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5880" y="5877000"/>
              <a:ext cx="41040" cy="20772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24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4" y="0"/>
                  </a:lnTo>
                  <a:lnTo>
                    <a:pt x="24" y="83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25880" y="5877000"/>
              <a:ext cx="41040" cy="20772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24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4" y="0"/>
                  </a:lnTo>
                  <a:lnTo>
                    <a:pt x="24" y="8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79240" y="60372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94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00400" y="56721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95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66840" y="5465880"/>
              <a:ext cx="1561680" cy="46080"/>
            </a:xfrm>
            <a:custGeom>
              <a:avLst/>
              <a:gdLst/>
              <a:ahLst/>
              <a:rect l="l" t="t" r="r" b="b"/>
              <a:pathLst>
                <a:path w="925" h="24">
                  <a:moveTo>
                    <a:pt x="0" y="24"/>
                  </a:moveTo>
                  <a:lnTo>
                    <a:pt x="902" y="24"/>
                  </a:lnTo>
                  <a:lnTo>
                    <a:pt x="925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6840" y="5465880"/>
              <a:ext cx="1561680" cy="46080"/>
            </a:xfrm>
            <a:custGeom>
              <a:avLst/>
              <a:gdLst/>
              <a:ahLst/>
              <a:rect l="l" t="t" r="r" b="b"/>
              <a:pathLst>
                <a:path w="925" h="24">
                  <a:moveTo>
                    <a:pt x="0" y="24"/>
                  </a:moveTo>
                  <a:lnTo>
                    <a:pt x="902" y="24"/>
                  </a:lnTo>
                  <a:lnTo>
                    <a:pt x="925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66840" y="5511960"/>
              <a:ext cx="1523520" cy="1602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66840" y="5511960"/>
              <a:ext cx="1523520" cy="160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90720" y="5465880"/>
              <a:ext cx="37800" cy="2062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0720" y="5465880"/>
              <a:ext cx="37800" cy="2062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66840" y="5305320"/>
              <a:ext cx="1483920" cy="46080"/>
            </a:xfrm>
            <a:custGeom>
              <a:avLst/>
              <a:gdLst/>
              <a:ahLst/>
              <a:rect l="l" t="t" r="r" b="b"/>
              <a:pathLst>
                <a:path w="879" h="24">
                  <a:moveTo>
                    <a:pt x="0" y="24"/>
                  </a:moveTo>
                  <a:lnTo>
                    <a:pt x="864" y="24"/>
                  </a:lnTo>
                  <a:lnTo>
                    <a:pt x="879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66840" y="5305320"/>
              <a:ext cx="1483920" cy="46080"/>
            </a:xfrm>
            <a:custGeom>
              <a:avLst/>
              <a:gdLst/>
              <a:ahLst/>
              <a:rect l="l" t="t" r="r" b="b"/>
              <a:pathLst>
                <a:path w="879" h="24">
                  <a:moveTo>
                    <a:pt x="0" y="24"/>
                  </a:moveTo>
                  <a:lnTo>
                    <a:pt x="864" y="24"/>
                  </a:lnTo>
                  <a:lnTo>
                    <a:pt x="879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6840" y="5351400"/>
              <a:ext cx="1458360" cy="1605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66840" y="5351400"/>
              <a:ext cx="1458360" cy="1605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560" y="5305320"/>
              <a:ext cx="25200" cy="206640"/>
            </a:xfrm>
            <a:custGeom>
              <a:avLst/>
              <a:gdLst/>
              <a:ahLst/>
              <a:rect l="l" t="t" r="r" b="b"/>
              <a:pathLst>
                <a:path w="15" h="107">
                  <a:moveTo>
                    <a:pt x="15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83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25560" y="5305320"/>
              <a:ext cx="25200" cy="206640"/>
            </a:xfrm>
            <a:custGeom>
              <a:avLst/>
              <a:gdLst/>
              <a:ahLst/>
              <a:rect l="l" t="t" r="r" b="b"/>
              <a:pathLst>
                <a:path w="15" h="107">
                  <a:moveTo>
                    <a:pt x="15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8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6680" y="54896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53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39680" y="5145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5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66840" y="4894200"/>
              <a:ext cx="2329920" cy="46080"/>
            </a:xfrm>
            <a:custGeom>
              <a:avLst/>
              <a:gdLst/>
              <a:ahLst/>
              <a:rect l="l" t="t" r="r" b="b"/>
              <a:pathLst>
                <a:path w="1380" h="24">
                  <a:moveTo>
                    <a:pt x="0" y="24"/>
                  </a:moveTo>
                  <a:lnTo>
                    <a:pt x="1365" y="24"/>
                  </a:lnTo>
                  <a:lnTo>
                    <a:pt x="1380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66840" y="4894200"/>
              <a:ext cx="2329920" cy="46080"/>
            </a:xfrm>
            <a:custGeom>
              <a:avLst/>
              <a:gdLst/>
              <a:ahLst/>
              <a:rect l="l" t="t" r="r" b="b"/>
              <a:pathLst>
                <a:path w="1380" h="24">
                  <a:moveTo>
                    <a:pt x="0" y="24"/>
                  </a:moveTo>
                  <a:lnTo>
                    <a:pt x="1365" y="24"/>
                  </a:lnTo>
                  <a:lnTo>
                    <a:pt x="1380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6840" y="4940280"/>
              <a:ext cx="2304720" cy="1602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66840" y="4940280"/>
              <a:ext cx="2304720" cy="1602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71920" y="4894200"/>
              <a:ext cx="24840" cy="206280"/>
            </a:xfrm>
            <a:custGeom>
              <a:avLst/>
              <a:gdLst/>
              <a:ahLst/>
              <a:rect l="l" t="t" r="r" b="b"/>
              <a:pathLst>
                <a:path w="15" h="107">
                  <a:moveTo>
                    <a:pt x="15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83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1920" y="4894200"/>
              <a:ext cx="24840" cy="206280"/>
            </a:xfrm>
            <a:custGeom>
              <a:avLst/>
              <a:gdLst/>
              <a:ahLst/>
              <a:rect l="l" t="t" r="r" b="b"/>
              <a:pathLst>
                <a:path w="15" h="107">
                  <a:moveTo>
                    <a:pt x="15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66840" y="4734000"/>
              <a:ext cx="2434680" cy="46080"/>
            </a:xfrm>
            <a:custGeom>
              <a:avLst/>
              <a:gdLst/>
              <a:ahLst/>
              <a:rect l="l" t="t" r="r" b="b"/>
              <a:pathLst>
                <a:path w="1442" h="24">
                  <a:moveTo>
                    <a:pt x="0" y="24"/>
                  </a:moveTo>
                  <a:lnTo>
                    <a:pt x="1419" y="24"/>
                  </a:lnTo>
                  <a:lnTo>
                    <a:pt x="1442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66840" y="4734000"/>
              <a:ext cx="2434680" cy="46080"/>
            </a:xfrm>
            <a:custGeom>
              <a:avLst/>
              <a:gdLst/>
              <a:ahLst/>
              <a:rect l="l" t="t" r="r" b="b"/>
              <a:pathLst>
                <a:path w="1442" h="24">
                  <a:moveTo>
                    <a:pt x="0" y="24"/>
                  </a:moveTo>
                  <a:lnTo>
                    <a:pt x="1419" y="24"/>
                  </a:lnTo>
                  <a:lnTo>
                    <a:pt x="1442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66840" y="4780080"/>
              <a:ext cx="2396880" cy="1602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66840" y="4780080"/>
              <a:ext cx="2396880" cy="1602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64080" y="4734000"/>
              <a:ext cx="37440" cy="2062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64080" y="4734000"/>
              <a:ext cx="37440" cy="2062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10880" y="498636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79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7560" y="4665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83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66840" y="4344840"/>
              <a:ext cx="1145880" cy="47880"/>
            </a:xfrm>
            <a:custGeom>
              <a:avLst/>
              <a:gdLst/>
              <a:ahLst/>
              <a:rect l="l" t="t" r="r" b="b"/>
              <a:pathLst>
                <a:path w="679" h="24">
                  <a:moveTo>
                    <a:pt x="0" y="24"/>
                  </a:moveTo>
                  <a:lnTo>
                    <a:pt x="663" y="24"/>
                  </a:lnTo>
                  <a:lnTo>
                    <a:pt x="679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66840" y="4344840"/>
              <a:ext cx="1145880" cy="47880"/>
            </a:xfrm>
            <a:custGeom>
              <a:avLst/>
              <a:gdLst/>
              <a:ahLst/>
              <a:rect l="l" t="t" r="r" b="b"/>
              <a:pathLst>
                <a:path w="679" h="24">
                  <a:moveTo>
                    <a:pt x="0" y="24"/>
                  </a:moveTo>
                  <a:lnTo>
                    <a:pt x="663" y="24"/>
                  </a:lnTo>
                  <a:lnTo>
                    <a:pt x="679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66840" y="4392720"/>
              <a:ext cx="1118880" cy="1602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66840" y="4392720"/>
              <a:ext cx="1118880" cy="1602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6080" y="4344840"/>
              <a:ext cx="26640" cy="2080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86080" y="4344840"/>
              <a:ext cx="26640" cy="2080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66840" y="4184640"/>
              <a:ext cx="1198080" cy="47520"/>
            </a:xfrm>
            <a:custGeom>
              <a:avLst/>
              <a:gdLst/>
              <a:ahLst/>
              <a:rect l="l" t="t" r="r" b="b"/>
              <a:pathLst>
                <a:path w="710" h="24">
                  <a:moveTo>
                    <a:pt x="0" y="24"/>
                  </a:moveTo>
                  <a:lnTo>
                    <a:pt x="686" y="24"/>
                  </a:lnTo>
                  <a:lnTo>
                    <a:pt x="710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66840" y="4184640"/>
              <a:ext cx="1198080" cy="47520"/>
            </a:xfrm>
            <a:custGeom>
              <a:avLst/>
              <a:gdLst/>
              <a:ahLst/>
              <a:rect l="l" t="t" r="r" b="b"/>
              <a:pathLst>
                <a:path w="710" h="24">
                  <a:moveTo>
                    <a:pt x="0" y="24"/>
                  </a:moveTo>
                  <a:lnTo>
                    <a:pt x="686" y="24"/>
                  </a:lnTo>
                  <a:lnTo>
                    <a:pt x="710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6840" y="4232160"/>
              <a:ext cx="1158480" cy="1605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6840" y="4232160"/>
              <a:ext cx="1158480" cy="1605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25680" y="4184640"/>
              <a:ext cx="39240" cy="20808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24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4" y="0"/>
                  </a:lnTo>
                  <a:lnTo>
                    <a:pt x="24" y="83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25680" y="4184640"/>
              <a:ext cx="39240" cy="20808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24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4" y="0"/>
                  </a:lnTo>
                  <a:lnTo>
                    <a:pt x="24" y="8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39080" y="44146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38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26840" y="4118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4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66840" y="3773520"/>
              <a:ext cx="1458360" cy="46080"/>
            </a:xfrm>
            <a:custGeom>
              <a:avLst/>
              <a:gdLst/>
              <a:ahLst/>
              <a:rect l="l" t="t" r="r" b="b"/>
              <a:pathLst>
                <a:path w="864" h="24">
                  <a:moveTo>
                    <a:pt x="0" y="24"/>
                  </a:moveTo>
                  <a:lnTo>
                    <a:pt x="848" y="24"/>
                  </a:lnTo>
                  <a:lnTo>
                    <a:pt x="864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66840" y="3773520"/>
              <a:ext cx="1458360" cy="46080"/>
            </a:xfrm>
            <a:custGeom>
              <a:avLst/>
              <a:gdLst/>
              <a:ahLst/>
              <a:rect l="l" t="t" r="r" b="b"/>
              <a:pathLst>
                <a:path w="864" h="24">
                  <a:moveTo>
                    <a:pt x="0" y="24"/>
                  </a:moveTo>
                  <a:lnTo>
                    <a:pt x="848" y="24"/>
                  </a:lnTo>
                  <a:lnTo>
                    <a:pt x="864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6840" y="3819600"/>
              <a:ext cx="1431360" cy="1602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6840" y="3819600"/>
              <a:ext cx="1431360" cy="1602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98560" y="3773520"/>
              <a:ext cx="26640" cy="2062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98560" y="3773520"/>
              <a:ext cx="26640" cy="20628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66840" y="3613320"/>
              <a:ext cx="1523520" cy="45720"/>
            </a:xfrm>
            <a:custGeom>
              <a:avLst/>
              <a:gdLst/>
              <a:ahLst/>
              <a:rect l="l" t="t" r="r" b="b"/>
              <a:pathLst>
                <a:path w="902" h="24">
                  <a:moveTo>
                    <a:pt x="0" y="24"/>
                  </a:moveTo>
                  <a:lnTo>
                    <a:pt x="879" y="24"/>
                  </a:lnTo>
                  <a:lnTo>
                    <a:pt x="902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66840" y="3613320"/>
              <a:ext cx="1523520" cy="45720"/>
            </a:xfrm>
            <a:custGeom>
              <a:avLst/>
              <a:gdLst/>
              <a:ahLst/>
              <a:rect l="l" t="t" r="r" b="b"/>
              <a:pathLst>
                <a:path w="902" h="24">
                  <a:moveTo>
                    <a:pt x="0" y="24"/>
                  </a:moveTo>
                  <a:lnTo>
                    <a:pt x="879" y="24"/>
                  </a:lnTo>
                  <a:lnTo>
                    <a:pt x="902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6840" y="3659040"/>
              <a:ext cx="1483920" cy="16056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6840" y="3659040"/>
              <a:ext cx="1483920" cy="1605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1120" y="3613320"/>
              <a:ext cx="39240" cy="2062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1120" y="3613320"/>
              <a:ext cx="39240" cy="20628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23" y="8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37520" y="391176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49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23840" y="35463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51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66840" y="3201840"/>
              <a:ext cx="1823760" cy="46080"/>
            </a:xfrm>
            <a:custGeom>
              <a:avLst/>
              <a:gdLst/>
              <a:ahLst/>
              <a:rect l="l" t="t" r="r" b="b"/>
              <a:pathLst>
                <a:path w="1080" h="24">
                  <a:moveTo>
                    <a:pt x="0" y="24"/>
                  </a:moveTo>
                  <a:lnTo>
                    <a:pt x="1064" y="24"/>
                  </a:lnTo>
                  <a:lnTo>
                    <a:pt x="1080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66840" y="3201840"/>
              <a:ext cx="1823760" cy="46080"/>
            </a:xfrm>
            <a:custGeom>
              <a:avLst/>
              <a:gdLst/>
              <a:ahLst/>
              <a:rect l="l" t="t" r="r" b="b"/>
              <a:pathLst>
                <a:path w="1080" h="24">
                  <a:moveTo>
                    <a:pt x="0" y="24"/>
                  </a:moveTo>
                  <a:lnTo>
                    <a:pt x="1064" y="24"/>
                  </a:lnTo>
                  <a:lnTo>
                    <a:pt x="1080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66840" y="3247920"/>
              <a:ext cx="1796760" cy="16056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66840" y="3247920"/>
              <a:ext cx="1796760" cy="16056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63960" y="3201840"/>
              <a:ext cx="26640" cy="20664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3960" y="3201840"/>
              <a:ext cx="26640" cy="206640"/>
            </a:xfrm>
            <a:custGeom>
              <a:avLst/>
              <a:gdLst/>
              <a:ahLst/>
              <a:rect l="l" t="t" r="r" b="b"/>
              <a:pathLst>
                <a:path w="16" h="107">
                  <a:moveTo>
                    <a:pt x="16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66840" y="3043080"/>
              <a:ext cx="1848960" cy="44640"/>
            </a:xfrm>
            <a:custGeom>
              <a:avLst/>
              <a:gdLst/>
              <a:ahLst/>
              <a:rect l="l" t="t" r="r" b="b"/>
              <a:pathLst>
                <a:path w="1095" h="23">
                  <a:moveTo>
                    <a:pt x="0" y="23"/>
                  </a:moveTo>
                  <a:lnTo>
                    <a:pt x="1072" y="23"/>
                  </a:lnTo>
                  <a:lnTo>
                    <a:pt x="1095" y="0"/>
                  </a:lnTo>
                  <a:lnTo>
                    <a:pt x="24" y="0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66840" y="3043080"/>
              <a:ext cx="1848960" cy="44640"/>
            </a:xfrm>
            <a:custGeom>
              <a:avLst/>
              <a:gdLst/>
              <a:ahLst/>
              <a:rect l="l" t="t" r="r" b="b"/>
              <a:pathLst>
                <a:path w="1095" h="23">
                  <a:moveTo>
                    <a:pt x="0" y="23"/>
                  </a:moveTo>
                  <a:lnTo>
                    <a:pt x="1072" y="23"/>
                  </a:lnTo>
                  <a:lnTo>
                    <a:pt x="1095" y="0"/>
                  </a:lnTo>
                  <a:lnTo>
                    <a:pt x="24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66840" y="3087720"/>
              <a:ext cx="1809360" cy="1602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66840" y="3087720"/>
              <a:ext cx="1809360" cy="1602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6560" y="3043080"/>
              <a:ext cx="39240" cy="204840"/>
            </a:xfrm>
            <a:custGeom>
              <a:avLst/>
              <a:gdLst/>
              <a:ahLst/>
              <a:rect l="l" t="t" r="r" b="b"/>
              <a:pathLst>
                <a:path w="23" h="106">
                  <a:moveTo>
                    <a:pt x="23" y="82"/>
                  </a:moveTo>
                  <a:lnTo>
                    <a:pt x="0" y="106"/>
                  </a:lnTo>
                  <a:lnTo>
                    <a:pt x="0" y="23"/>
                  </a:lnTo>
                  <a:lnTo>
                    <a:pt x="23" y="0"/>
                  </a:lnTo>
                  <a:lnTo>
                    <a:pt x="23" y="82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6560" y="3043080"/>
              <a:ext cx="39240" cy="204840"/>
            </a:xfrm>
            <a:custGeom>
              <a:avLst/>
              <a:gdLst/>
              <a:ahLst/>
              <a:rect l="l" t="t" r="r" b="b"/>
              <a:pathLst>
                <a:path w="23" h="106">
                  <a:moveTo>
                    <a:pt x="23" y="82"/>
                  </a:moveTo>
                  <a:lnTo>
                    <a:pt x="0" y="106"/>
                  </a:lnTo>
                  <a:lnTo>
                    <a:pt x="0" y="23"/>
                  </a:lnTo>
                  <a:lnTo>
                    <a:pt x="23" y="0"/>
                  </a:lnTo>
                  <a:lnTo>
                    <a:pt x="23" y="82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64760" y="33386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62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65120" y="2973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2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66840" y="2652840"/>
              <a:ext cx="2603160" cy="47520"/>
            </a:xfrm>
            <a:custGeom>
              <a:avLst/>
              <a:gdLst/>
              <a:ahLst/>
              <a:rect l="l" t="t" r="r" b="b"/>
              <a:pathLst>
                <a:path w="1542" h="24">
                  <a:moveTo>
                    <a:pt x="0" y="24"/>
                  </a:moveTo>
                  <a:lnTo>
                    <a:pt x="1527" y="24"/>
                  </a:lnTo>
                  <a:lnTo>
                    <a:pt x="1542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66840" y="2652840"/>
              <a:ext cx="2603160" cy="47520"/>
            </a:xfrm>
            <a:custGeom>
              <a:avLst/>
              <a:gdLst/>
              <a:ahLst/>
              <a:rect l="l" t="t" r="r" b="b"/>
              <a:pathLst>
                <a:path w="1542" h="24">
                  <a:moveTo>
                    <a:pt x="0" y="24"/>
                  </a:moveTo>
                  <a:lnTo>
                    <a:pt x="1527" y="24"/>
                  </a:lnTo>
                  <a:lnTo>
                    <a:pt x="1542" y="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6840" y="2700360"/>
              <a:ext cx="2577600" cy="1602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66840" y="2700360"/>
              <a:ext cx="2577600" cy="1602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44800" y="2652840"/>
              <a:ext cx="25200" cy="207720"/>
            </a:xfrm>
            <a:custGeom>
              <a:avLst/>
              <a:gdLst/>
              <a:ahLst/>
              <a:rect l="l" t="t" r="r" b="b"/>
              <a:pathLst>
                <a:path w="15" h="107">
                  <a:moveTo>
                    <a:pt x="15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83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44800" y="2652840"/>
              <a:ext cx="25200" cy="207720"/>
            </a:xfrm>
            <a:custGeom>
              <a:avLst/>
              <a:gdLst/>
              <a:ahLst/>
              <a:rect l="l" t="t" r="r" b="b"/>
              <a:pathLst>
                <a:path w="15" h="107">
                  <a:moveTo>
                    <a:pt x="15" y="83"/>
                  </a:moveTo>
                  <a:lnTo>
                    <a:pt x="0" y="107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8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66840" y="2495520"/>
              <a:ext cx="2655360" cy="44640"/>
            </a:xfrm>
            <a:custGeom>
              <a:avLst/>
              <a:gdLst/>
              <a:ahLst/>
              <a:rect l="l" t="t" r="r" b="b"/>
              <a:pathLst>
                <a:path w="1573" h="23">
                  <a:moveTo>
                    <a:pt x="0" y="23"/>
                  </a:moveTo>
                  <a:lnTo>
                    <a:pt x="1557" y="23"/>
                  </a:lnTo>
                  <a:lnTo>
                    <a:pt x="1573" y="0"/>
                  </a:lnTo>
                  <a:lnTo>
                    <a:pt x="24" y="0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66840" y="2495520"/>
              <a:ext cx="2655360" cy="44640"/>
            </a:xfrm>
            <a:custGeom>
              <a:avLst/>
              <a:gdLst/>
              <a:ahLst/>
              <a:rect l="l" t="t" r="r" b="b"/>
              <a:pathLst>
                <a:path w="1573" h="23">
                  <a:moveTo>
                    <a:pt x="0" y="23"/>
                  </a:moveTo>
                  <a:lnTo>
                    <a:pt x="1557" y="23"/>
                  </a:lnTo>
                  <a:lnTo>
                    <a:pt x="1573" y="0"/>
                  </a:lnTo>
                  <a:lnTo>
                    <a:pt x="24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66840" y="2540160"/>
              <a:ext cx="2628360" cy="1602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66840" y="2540160"/>
              <a:ext cx="2628360" cy="1602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95560" y="2495520"/>
              <a:ext cx="26640" cy="20484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82"/>
                  </a:moveTo>
                  <a:lnTo>
                    <a:pt x="0" y="106"/>
                  </a:lnTo>
                  <a:lnTo>
                    <a:pt x="0" y="23"/>
                  </a:lnTo>
                  <a:lnTo>
                    <a:pt x="16" y="0"/>
                  </a:lnTo>
                  <a:lnTo>
                    <a:pt x="16" y="82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95560" y="2495520"/>
              <a:ext cx="26640" cy="20484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82"/>
                  </a:moveTo>
                  <a:lnTo>
                    <a:pt x="0" y="106"/>
                  </a:lnTo>
                  <a:lnTo>
                    <a:pt x="0" y="23"/>
                  </a:lnTo>
                  <a:lnTo>
                    <a:pt x="16" y="0"/>
                  </a:lnTo>
                  <a:lnTo>
                    <a:pt x="16" y="82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23360" y="263196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Small Fonts"/>
                </a:rPr>
                <a:t>89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5280" y="23115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9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055680" y="2448000"/>
              <a:ext cx="108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989080" y="6951600"/>
              <a:ext cx="66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89080" y="6381720"/>
              <a:ext cx="6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89080" y="5832360"/>
              <a:ext cx="66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989080" y="5261040"/>
              <a:ext cx="6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989080" y="4689360"/>
              <a:ext cx="66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989080" y="4140360"/>
              <a:ext cx="662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989080" y="3568680"/>
              <a:ext cx="6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989080" y="2997360"/>
              <a:ext cx="6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89080" y="2448000"/>
              <a:ext cx="66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2800" y="5897520"/>
              <a:ext cx="1918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Cottura con olio d'oliva o</a:t>
              </a:r>
              <a:br>
                <a:rPr sz="1300"/>
              </a:b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 grassi vegeta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41200" y="5248440"/>
              <a:ext cx="1510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Pesce almeno una </a:t>
              </a:r>
              <a:br>
                <a:rPr sz="1300"/>
              </a:b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volta alla settima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12600" y="4849920"/>
              <a:ext cx="46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Frut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15760" y="4278240"/>
              <a:ext cx="59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Ortagg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88040" y="3706920"/>
              <a:ext cx="62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Verd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3157560"/>
              <a:ext cx="1018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Latte alme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21400" y="2585880"/>
              <a:ext cx="1276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Small Fonts"/>
                </a:rPr>
                <a:t>Pane, pasta, ris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90720" y="7543800"/>
            <a:ext cx="533160" cy="3808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7543800"/>
            <a:ext cx="137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6 anni f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7543800"/>
            <a:ext cx="533520" cy="38088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7543800"/>
            <a:ext cx="137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ogg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1752480"/>
            <a:ext cx="83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val.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2362320"/>
            <a:ext cx="609840" cy="2819160"/>
          </a:xfrm>
          <a:custGeom>
            <a:avLst/>
            <a:gdLst>
              <a:gd name="textAreaLeft" fmla="*/ 179280 w 609840"/>
              <a:gd name="textAreaRight" fmla="*/ 610200 w 609840"/>
              <a:gd name="textAreaTop" fmla="*/ 117360 h 2819160"/>
              <a:gd name="textAreaBottom" fmla="*/ 270180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156800">
            <a:off x="-1027440" y="354204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meno 1 volta al gi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1066680"/>
            <a:ext cx="5486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% DI ITALIANI CHE MANGIA ALMENO 1 VOLTA AL GIORN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09480" y="5691240"/>
          <a:ext cx="5791320" cy="32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691240"/>
                    <a:ext cx="579132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2514600" y="563868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VERD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82480" y="2398680"/>
          <a:ext cx="5691240" cy="31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2480" y="2398680"/>
                    <a:ext cx="569124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514600" y="201132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FRUT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13716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% DI RESIDENTI CHE CONSUMANO IL PRODOTTO ALMENO 1 VOLTA AL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91440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PANE, PASTA, RI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122640"/>
            <a:ext cx="35049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ABRUZZO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94,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ARCH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94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SICI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93,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6248520"/>
            <a:ext cx="350496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BASILICAT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6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PUG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3,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RENTINO A. A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9,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24382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588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CARNI BOV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595680"/>
            <a:ext cx="35049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UMBR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9,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ARCH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9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CAMPAN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8,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6248520"/>
            <a:ext cx="350496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LIGUR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8,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SARDEGN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6,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RENTINO A.A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51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16160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% DI RESIDENTI CHE CONSUMANO IL PRODOTTO ALMENO 1 VOLTA AL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8954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LAT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3595680"/>
            <a:ext cx="35049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LAZIO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1,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FRIULI V.G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7,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OLIS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7,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6248520"/>
            <a:ext cx="35049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SICI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55,9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CALABR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54,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BASILICAT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53,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5397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% DI RESIDENTI CHE CONSUMANO IL PRODOTTO ALMENO 1 VOLTA AL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74320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99072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ORMAGG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122640"/>
            <a:ext cx="350496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VALLE D’AOST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0,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RENTINO A.A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51,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FRIULI V.G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50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6248520"/>
            <a:ext cx="35049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LAZIO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21,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ARCH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17,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CAMPAN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14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13716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% DI RESIDENTI CHE CONSUMANO IL PRODOTTO ALMENO 1 VOLTA AL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382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99072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VERD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3138480"/>
            <a:ext cx="350496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FRIULI V.G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2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VENETO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4,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RENTINO A.A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3,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6248520"/>
            <a:ext cx="35049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PUG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31,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OLIS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28,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BASILICAT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20,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3716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% DI RESIDENTI CHE CONSUMANO IL PRODOTTO ALMENO 1 VOLTA AL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4382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86832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RUT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3198960"/>
            <a:ext cx="350496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ABRUZZO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6,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OLIS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5,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SICI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3,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6248520"/>
            <a:ext cx="350496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VALLE D’AOST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4,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FRIULI V.G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4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RENTINO A.A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2,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13716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% DI RESIDENTI CHE CONSUMANO IL PRODOTTO ALMENO 1 VOLTA AL GI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24382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91440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PES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2970360"/>
            <a:ext cx="35049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PUG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4,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SICI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3,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CAMPAN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3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6248520"/>
            <a:ext cx="3504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PIEMONT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42,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FRIULI V.G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40,9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RENTINO A.A.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31,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1371600"/>
            <a:ext cx="54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 DI RESIDENTI CHE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SUMANO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IL PRODOTTO ALMENO 1 VOLTA ALLA SETTIM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5516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4382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6094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GLI ITALIANI CHE CONSUMAN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678200"/>
            <a:ext cx="167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BIRRA</a:t>
            </a:r>
            <a:br>
              <a:rPr sz="17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val.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905120" y="1171440"/>
          <a:ext cx="4038480" cy="23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71440"/>
                    <a:ext cx="403848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828800" y="3805200"/>
          <a:ext cx="3962520" cy="229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805200"/>
                    <a:ext cx="396252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52480" y="6629400"/>
          <a:ext cx="3971880" cy="2295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629400"/>
                    <a:ext cx="3971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685800" y="708660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ALCOLICI 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FUORI PASTO</a:t>
            </a:r>
            <a:br>
              <a:rPr sz="17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val.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05120"/>
            <a:ext cx="167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VINO</a:t>
            </a:r>
            <a:br>
              <a:rPr sz="17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val.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944892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448920"/>
              <a:gd name="textAreaBottom" fmla="*/ 9140400 h 9448920"/>
            </a:gdLst>
            <a:ahLst/>
            <a:rect l="textAreaLeft" t="textAreaTop" r="textAreaRight" b="textAreaBottom"/>
            <a:pathLst>
              <a:path w="21600" h="32270">
                <a:moveTo>
                  <a:pt x="3600" y="0"/>
                </a:moveTo>
                <a:arcTo wR="3600" hR="3600" stAng="16200000" swAng="-5400000"/>
                <a:lnTo>
                  <a:pt x="0" y="28670"/>
                </a:lnTo>
                <a:arcTo wR="3600" hR="3600" stAng="10800000" swAng="-5400000"/>
                <a:lnTo>
                  <a:pt x="18000" y="322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7632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957564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35676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SPESA ALIMENTARE DELLE FAMIGLIE </a:t>
            </a:r>
            <a:br>
              <a:rPr sz="17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in miliardi di lire – valori a prezzi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6280" y="1143000"/>
            <a:ext cx="4105440" cy="215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6248520"/>
            <a:ext cx="5486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SPESA DELLE FAMIGLIE PER ALCUNI PRODOTTI ALIMENTAR I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miliardi di lire-valori  a prezzi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30400" y="6705720"/>
            <a:ext cx="4597200" cy="265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3363840"/>
            <a:ext cx="5486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</a:rPr>
              <a:t>CONSUMI ALIMENTAR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cc"/>
                </a:solidFill>
                <a:latin typeface="Arial"/>
              </a:rPr>
              <a:t>IL FUORI CASA PESA SEMPRE DI PIU’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(val.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76240" y="3973680"/>
          <a:ext cx="4762440" cy="227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6240" y="3973680"/>
                    <a:ext cx="47624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1189080"/>
            <a:ext cx="5486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IL PROFILO DEL CONSUMATORE DI </a:t>
            </a:r>
            <a:br>
              <a:rPr sz="17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frequenza di consu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2435400"/>
            <a:ext cx="1904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SESS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ETA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RESIDEN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2435400"/>
            <a:ext cx="1904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mas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55-65 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Valle d’A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19320" y="7388280"/>
            <a:ext cx="1904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SESS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ETA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RESIDEN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7388280"/>
            <a:ext cx="1904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mas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45-54 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Trentino Alto Adi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4568760"/>
            <a:ext cx="1904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SESS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ETA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 Narrow"/>
              </a:rPr>
              <a:t>RESIDEN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4568760"/>
            <a:ext cx="1904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mas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25-34 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Sarde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66596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LIQUOR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39164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BIR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6560" y="1981080"/>
            <a:ext cx="709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VINO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838080"/>
            <a:ext cx="54864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QUALE E’ IL PASTO PRINCIPALE DEGLI ITALIANI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totale Italia –val.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1447920"/>
            <a:ext cx="243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ANZ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5288040"/>
            <a:ext cx="243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CE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19280" y="5791320"/>
          <a:ext cx="541944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5791320"/>
                    <a:ext cx="54194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38080" y="2166840"/>
          <a:ext cx="5105520" cy="296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166840"/>
                    <a:ext cx="51055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8380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QUALE E’ IL PASTO PRINCIPALE DEGLI ITALIANI?</a:t>
            </a:r>
            <a:br>
              <a:rPr sz="1700"/>
            </a:b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per grande ripartizione geografica-val.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1935000"/>
            <a:ext cx="243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ANZ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288040"/>
            <a:ext cx="243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CE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2120" y="5867280"/>
          <a:ext cx="5333760" cy="30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867280"/>
                    <a:ext cx="53337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878040" y="2244600"/>
          <a:ext cx="5100480" cy="293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8040" y="2244600"/>
                    <a:ext cx="510048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8380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QUALE E’ IL PASTO PRINCIPALE DEGLI ITALIANI?</a:t>
            </a:r>
            <a:br>
              <a:rPr sz="1700"/>
            </a:b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per regione –val.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1447920"/>
            <a:ext cx="243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ANZ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288040"/>
            <a:ext cx="243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CE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57400" y="1905120"/>
          <a:ext cx="3236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3236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133720" y="2209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1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2057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1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286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63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057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9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286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2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5146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6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743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68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590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0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895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65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124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6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64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895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0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276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2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505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2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733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2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6576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6,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886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6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267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1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9625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1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9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09680" y="5791320"/>
          <a:ext cx="32371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791320"/>
                    <a:ext cx="3237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86000" y="6095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2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9436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3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6172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3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59436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6172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2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31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6629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6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6477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4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6781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8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010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4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7315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27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6781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4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7162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2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73915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3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762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3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7543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7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7772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5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8153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3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7848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8,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8610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13,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657600"/>
            <a:ext cx="4572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514600"/>
            <a:ext cx="4572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6400800"/>
            <a:ext cx="4572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7772400"/>
            <a:ext cx="4572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838080"/>
            <a:ext cx="5486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CRESCE IL NUMERO DI ITALIANI CHE FA UNA COLAZIONE “RICCA”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val.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828800"/>
          <a:ext cx="5333760" cy="29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533376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39880" y="5934240"/>
          <a:ext cx="5176800" cy="298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9880" y="5934240"/>
                    <a:ext cx="51768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5172120"/>
            <a:ext cx="5486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LA COLAZIONE “RICCA” E’  UN’ABITUDINE DEGLI ITALIANI RESIDENTI NEL CENTRO-NORD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val.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117324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IL CULTO DELLA COL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39076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PRIME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559260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LE ULTIME  3 REG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3367080"/>
            <a:ext cx="35049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MARCHE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1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TOSCAN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0,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EMILIA ROMAGN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80,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483240"/>
            <a:ext cx="350496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PUGL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1,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CAMPAN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71,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CALABRIA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 Narrow"/>
              </a:rPr>
              <a:t>67,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63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29559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6095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523880"/>
            <a:ext cx="5486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GLI ITALIANI CHE CONSUMANO IL PRANZO IN CASA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val.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42880" y="3254400"/>
          <a:ext cx="593424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3254400"/>
                    <a:ext cx="593424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838080"/>
            <a:ext cx="548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GLI ITALIANI CONSUMANO IL PRANZO 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04920"/>
            <a:ext cx="6324480" cy="9296280"/>
          </a:xfrm>
          <a:custGeom>
            <a:avLst/>
            <a:gdLst>
              <a:gd name="textAreaLeft" fmla="*/ 308520 w 6324480"/>
              <a:gd name="textAreaRight" fmla="*/ 6015960 w 6324480"/>
              <a:gd name="textAreaTop" fmla="*/ 308520 h 9296280"/>
              <a:gd name="textAreaBottom" fmla="*/ 8987760 h 9296280"/>
            </a:gdLst>
            <a:ahLst/>
            <a:rect l="textAreaLeft" t="textAreaTop" r="textAreaRight" b="textAreaBottom"/>
            <a:pathLst>
              <a:path w="21600" h="31749">
                <a:moveTo>
                  <a:pt x="3600" y="0"/>
                </a:moveTo>
                <a:arcTo wR="3600" hR="3600" stAng="16200000" swAng="-5400000"/>
                <a:lnTo>
                  <a:pt x="0" y="28149"/>
                </a:lnTo>
                <a:arcTo wR="3600" hR="3600" stAng="10800000" swAng="-5400000"/>
                <a:lnTo>
                  <a:pt x="18000" y="3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173160"/>
            <a:ext cx="19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NUOVI STILI ALIMENT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9499680"/>
            <a:ext cx="1752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Narrow"/>
              </a:rPr>
              <a:t>Saint Vincent 26 giugn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9144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FONTE: elaborazione C.S. Fipe su dati I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5360" y="1447920"/>
          <a:ext cx="5867280" cy="30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47920"/>
                    <a:ext cx="586728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819520" y="441972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809880"/>
            <a:ext cx="0" cy="6098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437920" y="411480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4114800"/>
            <a:ext cx="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4100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724280"/>
            <a:ext cx="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724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54100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60958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572000"/>
            <a:ext cx="2209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</a:rPr>
              <a:t>MENSA       </a:t>
            </a:r>
            <a:r>
              <a:rPr b="1" lang="it-IT" sz="1700" spc="-1" strike="noStrike">
                <a:solidFill>
                  <a:srgbClr val="cc3300"/>
                </a:solidFill>
                <a:latin typeface="Arial"/>
              </a:rPr>
              <a:t>7,4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21172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RISTORANTE/TRAT.   </a:t>
            </a: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2,3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5897520"/>
            <a:ext cx="236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BAR             </a:t>
            </a: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1,8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6629400"/>
          <a:ext cx="3962520" cy="228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629400"/>
                    <a:ext cx="39625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600200" y="4038480"/>
            <a:ext cx="685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37339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0" cy="3581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76201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4:24:10Z</dcterms:created>
  <dc:creator>Renata</dc:creator>
  <dc:description/>
  <dc:language>en-US</dc:language>
  <cp:lastModifiedBy>Fipe Servizi</cp:lastModifiedBy>
  <dcterms:modified xsi:type="dcterms:W3CDTF">2000-06-22T08:01:59Z</dcterms:modified>
  <cp:revision>16</cp:revision>
  <dc:subject/>
  <dc:title>Presentazione di PowerPoint</dc:title>
</cp:coreProperties>
</file>