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316-CC2D-44EA-A301-E213F3B6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4A6-9FE8-485E-B050-2005F2F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820-62FD-4256-B6A1-B7C5DDFE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C7F-2DFF-4BC7-B6C9-B9EB3C22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1FE-630E-4869-9D1A-3F08AE9B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65D-A2CC-4AF1-A810-EB94E8E0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2DE-3D61-4124-8D3F-77F754F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0AE-2D73-4A38-94B6-75D67348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698-79D3-463B-A903-1974C46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B85-07E1-4C5E-B36D-39B1313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A7A-8749-4986-AC7E-8CA0431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551-E705-4459-B982-7015BCF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0001-1771-4F1F-A81B-72453C085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7680" y="2791800"/>
            <a:ext cx="55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GGE 16 GENNAIO 2003, N. 3 – ART.51</a:t>
            </a:r>
            <a:br>
              <a:rPr sz="22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successive modificazioni e integr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0640" y="3531960"/>
            <a:ext cx="5761080" cy="2179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VIETATO FUMA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5920" y="5838120"/>
            <a:ext cx="64530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TRASGRESSORI AL DIVIETO SONO SOGGETTI ALLA SANZIONE AMMINISTRATIVA PECUNIARIA DA EUR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,5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AD EUR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5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MISURA DELLA SANZIONE E’ RADDOPPIATA QUALORA LA VIOLAZIONE SIA COMMESSA IN PRESENZA DI UNA DONNA IN EVIDENTE STATO DI GRAVIDANZA O IN PRESENZA DI LATTANTI O BAMBINI FINO A 12 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7708680"/>
            <a:ext cx="619272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85680" indent="-9856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ggetti ai quali spetta vigilare per l’osservanza del divieto 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ggetti competenti all’accertamento delle infrazioni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FFICIALI ED AGENTI DI POLIZIA GIUDIZIARIA, POLIZIA AMMINISTRATIVA LOCALE, GUARDIE GIURATE ADIBITE ALLO SPECIFICO SERVIZ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3080" y="9201240"/>
            <a:ext cx="10810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9720" y="91994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associ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60640" y="0"/>
            <a:ext cx="2743200" cy="276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0280" y="9723600"/>
            <a:ext cx="626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LLO CONFORME ALLE DISPOSIZIONI DI LEG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3360" y="9201240"/>
            <a:ext cx="1158840" cy="54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00280" y="9201240"/>
            <a:ext cx="10285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0640" y="3963600"/>
            <a:ext cx="5761080" cy="370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VIETATO FUMA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3080" y="8771040"/>
            <a:ext cx="108108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9720" y="8769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 associ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16280" y="200160"/>
            <a:ext cx="2860560" cy="28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0280" y="9561600"/>
            <a:ext cx="626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LLO CONFORME ALLE DISPOSIZIONI DI LEG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3360" y="8985240"/>
            <a:ext cx="1158840" cy="54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00280" y="8985240"/>
            <a:ext cx="10285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9:29:02Z</dcterms:created>
  <dc:creator>Renata</dc:creator>
  <dc:description/>
  <dc:language>en-US</dc:language>
  <cp:lastModifiedBy>Renata</cp:lastModifiedBy>
  <dcterms:modified xsi:type="dcterms:W3CDTF">2011-08-29T09:46:49Z</dcterms:modified>
  <cp:revision>19</cp:revision>
  <dc:subject/>
  <dc:title>Diapositiva 1</dc:title>
</cp:coreProperties>
</file>