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907588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76B-537D-4B07-80F1-8CF1BEEC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75E-6BD6-4D46-A2BE-D7D2425C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B09-E07A-45F1-B742-0B3015B2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10E-3615-40EA-A628-0346C5D1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EC4-21BE-43D8-ACC5-5296729C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A15-F026-4C5B-959A-135BA91D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0BB-B085-4535-BFC0-95E2132E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1C8-2443-4B50-8964-77A76694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D62-FF48-4EE8-A517-66F0C93E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BB3-2D54-4B44-B722-C6BD1DE7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7E0-8EE0-421B-AF0D-E4FAA062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504-9014-4B12-A5B2-37F78940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3393-6481-4E4D-A04E-1FE43F952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7680" y="2791800"/>
            <a:ext cx="551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EGGE 16 GENNAIO 2003, N. 3 – ART.51</a:t>
            </a:r>
            <a:br>
              <a:rPr sz="22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successive modificazioni e integr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0640" y="3531960"/>
            <a:ext cx="5761080" cy="2179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VIETATO FUMAR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5920" y="5838120"/>
            <a:ext cx="64530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TRASGRESSORI AL DIVIETO SONO SOGGETTI ALLA SANZIONE AMMINISTRATIVA PECUNIARIA DA EUR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,5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AD EUR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5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MISURA DELLA SANZIONE E’ RADDOPPIATA QUALORA LA VIOLAZIONE SIA COMMESSA IN PRESENZA DI UNA DONNA IN EVIDENTE STATO DI GRAVIDANZA O IN PRESENZA DI LATTANTI O BAMBINI FINO A 12 A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360" y="7708680"/>
            <a:ext cx="619272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85680" indent="-98568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ggetti ai quali spetta vigilare per l’osservanza del divieto 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ggetti competenti all’accertamento delle infrazioni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FFICIALI ED AGENTI DI POLIZIA GIUDIZIARIA, POLIZIA AMMINISTRATIVA LOCALE, GUARDIE GIURATE ADIBITE ALLO SPECIFICO SERVIZ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3080" y="9201240"/>
            <a:ext cx="108108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9720" y="919944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 associ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60640" y="0"/>
            <a:ext cx="2743200" cy="2762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0280" y="9723600"/>
            <a:ext cx="6264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ELLO CONFORME ALLE DISPOSIZIONI DI LEG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33360" y="9201240"/>
            <a:ext cx="115884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00280" y="9201240"/>
            <a:ext cx="102852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20640" y="3963600"/>
            <a:ext cx="5761080" cy="370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VIETATO FUMA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3080" y="8771040"/>
            <a:ext cx="108108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9720" y="876924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 associ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16280" y="200160"/>
            <a:ext cx="2860560" cy="288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0280" y="9561600"/>
            <a:ext cx="6264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ELLO CONFORME ALLE DISPOSIZIONI DI LEG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33360" y="8913960"/>
            <a:ext cx="1158840" cy="542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00280" y="8913960"/>
            <a:ext cx="102852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70760" y="631080"/>
            <a:ext cx="551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GGE 16 GENNAIO 2003, N. 3 – ART.51</a:t>
            </a:r>
            <a:br>
              <a:rPr sz="2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successive modificazioni e integr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0280" y="2017800"/>
            <a:ext cx="6264360" cy="2516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OCAL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UMATOR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2640" y="5602680"/>
            <a:ext cx="495288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E ALLE SPECIFICHE DEL DECRETO DEL PRESIDENTE DEL CONSIGLIO DEI MINISTRI   DEL  23 DICEMBR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5200" y="8453520"/>
            <a:ext cx="5113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ienza massima: ___________________ pers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3080" y="9201240"/>
            <a:ext cx="108108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9720" y="919944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 associ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0280" y="9723600"/>
            <a:ext cx="6264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ELLO CONFORME ALLE DISPOSIZIONI DI LEG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33360" y="9201240"/>
            <a:ext cx="1158840" cy="542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00280" y="9201240"/>
            <a:ext cx="102852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9:29:02Z</dcterms:created>
  <dc:creator>Renata</dc:creator>
  <dc:description/>
  <dc:language>en-US</dc:language>
  <cp:lastModifiedBy>Renata</cp:lastModifiedBy>
  <dcterms:modified xsi:type="dcterms:W3CDTF">2011-08-29T09:47:38Z</dcterms:modified>
  <cp:revision>18</cp:revision>
  <dc:subject/>
  <dc:title>Diapositiva 1</dc:title>
</cp:coreProperties>
</file>